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098-9082-4E6A-879C-14C21DB8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1FA-FBB3-4A3D-BB00-E494C65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A25-8C94-4C5C-84EA-CF48D310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75-8587-4A83-9758-B053256E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C0C-919F-4A46-A34B-5F1B194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FDB-C9CC-4116-8BD2-F1CFD3C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09D-E093-4FA2-9DA7-65DBA6C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FA7-5AF4-4014-8CEE-12AC4FA3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C21-1CD4-4611-BB80-B019AE6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C18-CB2F-4F12-989D-F91AA0CA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B1D-AB98-43A2-8598-C27C699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739-9041-4196-B8C9-836363C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C69F-FF47-4D60-A6AE-E0D6B2C5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43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040" y="2819520"/>
            <a:ext cx="4952520" cy="1061280"/>
            <a:chOff x="914040" y="2819520"/>
            <a:chExt cx="4952520" cy="1061280"/>
          </a:xfrm>
        </p:grpSpPr>
        <p:sp>
          <p:nvSpPr>
            <p:cNvPr id="42" name=""/>
            <p:cNvSpPr/>
            <p:nvPr/>
          </p:nvSpPr>
          <p:spPr>
            <a:xfrm>
              <a:off x="3530160" y="3112200"/>
              <a:ext cx="1752840" cy="76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64280" y="3174840"/>
              <a:ext cx="602280" cy="601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525040" y="3557880"/>
              <a:ext cx="101304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flipV="1">
              <a:off x="1634760" y="3585600"/>
              <a:ext cx="889920" cy="2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485440" y="3449160"/>
              <a:ext cx="10422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1680840" y="3265560"/>
              <a:ext cx="81612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914040" y="3588120"/>
              <a:ext cx="71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987840" y="3191040"/>
              <a:ext cx="706680" cy="8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988560" y="3316680"/>
              <a:ext cx="661320" cy="2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053000" y="2931840"/>
              <a:ext cx="658440" cy="32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75400" y="2819520"/>
              <a:ext cx="1166400" cy="27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006920" y="2958840"/>
              <a:ext cx="7380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33120" y="3320280"/>
              <a:ext cx="7380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943600" y="3505320"/>
            <a:ext cx="1062000" cy="10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37280" y="26496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90560" y="3805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um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54920" y="2711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819000" y="-1406520"/>
          <a:ext cx="5391000" cy="35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19000" y="-1406520"/>
                    <a:ext cx="53910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886360" y="3475080"/>
            <a:ext cx="1161720" cy="1127160"/>
            <a:chOff x="5886360" y="3475080"/>
            <a:chExt cx="1161720" cy="1127160"/>
          </a:xfrm>
        </p:grpSpPr>
        <p:sp>
          <p:nvSpPr>
            <p:cNvPr id="62" name=""/>
            <p:cNvSpPr/>
            <p:nvPr/>
          </p:nvSpPr>
          <p:spPr>
            <a:xfrm>
              <a:off x="5886360" y="3475080"/>
              <a:ext cx="1161720" cy="11271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95240" y="3741120"/>
              <a:ext cx="545760" cy="529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946680" y="2851200"/>
            <a:ext cx="1001520" cy="801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040" y="2819520"/>
            <a:ext cx="4952520" cy="1061280"/>
            <a:chOff x="914040" y="2819520"/>
            <a:chExt cx="4952520" cy="1061280"/>
          </a:xfrm>
        </p:grpSpPr>
        <p:sp>
          <p:nvSpPr>
            <p:cNvPr id="66" name=""/>
            <p:cNvSpPr/>
            <p:nvPr/>
          </p:nvSpPr>
          <p:spPr>
            <a:xfrm>
              <a:off x="3530160" y="3112200"/>
              <a:ext cx="1752840" cy="76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64280" y="3174840"/>
              <a:ext cx="602280" cy="601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25040" y="3557880"/>
              <a:ext cx="1013040" cy="24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1634760" y="3585600"/>
              <a:ext cx="889920" cy="2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85440" y="3449160"/>
              <a:ext cx="10422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80840" y="3265560"/>
              <a:ext cx="816120" cy="21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914040" y="3588120"/>
              <a:ext cx="71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987840" y="3191040"/>
              <a:ext cx="706680" cy="8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988560" y="3316680"/>
              <a:ext cx="661320" cy="2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053000" y="2931840"/>
              <a:ext cx="658440" cy="32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75400" y="2819520"/>
              <a:ext cx="1166400" cy="279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6920" y="2958840"/>
              <a:ext cx="7380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3120" y="3320280"/>
              <a:ext cx="73800" cy="27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29760" y="527040"/>
            <a:ext cx="32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voir se stabi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-826920" y="-1481040"/>
          <a:ext cx="6097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6920" y="-1481040"/>
                    <a:ext cx="6097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455400" y="3117960"/>
            <a:ext cx="3065400" cy="656640"/>
            <a:chOff x="455400" y="3117960"/>
            <a:chExt cx="3065400" cy="656640"/>
          </a:xfrm>
        </p:grpSpPr>
        <p:sp>
          <p:nvSpPr>
            <p:cNvPr id="83" name=""/>
            <p:cNvSpPr/>
            <p:nvPr/>
          </p:nvSpPr>
          <p:spPr>
            <a:xfrm>
              <a:off x="2074680" y="3299040"/>
              <a:ext cx="1084680" cy="47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8200" y="3337920"/>
              <a:ext cx="372600" cy="372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452240" y="3574800"/>
              <a:ext cx="626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901440" y="359172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1428120" y="3507480"/>
              <a:ext cx="64512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29880" y="339336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5400" y="3593520"/>
              <a:ext cx="4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00760" y="3348000"/>
              <a:ext cx="43740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01840" y="3425760"/>
              <a:ext cx="40896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41800" y="318780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8520" y="3117960"/>
              <a:ext cx="721800" cy="17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13000" y="320400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67280" y="3427560"/>
              <a:ext cx="4572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73400" y="4741920"/>
            <a:ext cx="3065400" cy="656640"/>
            <a:chOff x="4073400" y="4741920"/>
            <a:chExt cx="3065400" cy="656640"/>
          </a:xfrm>
        </p:grpSpPr>
        <p:sp>
          <p:nvSpPr>
            <p:cNvPr id="97" name=""/>
            <p:cNvSpPr/>
            <p:nvPr/>
          </p:nvSpPr>
          <p:spPr>
            <a:xfrm>
              <a:off x="5692320" y="4923000"/>
              <a:ext cx="1085040" cy="47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5840" y="4961880"/>
              <a:ext cx="372960" cy="372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070240" y="5198760"/>
              <a:ext cx="6271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19080" y="521568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045400" y="5131440"/>
              <a:ext cx="64548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547880" y="501732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073400" y="5217480"/>
              <a:ext cx="44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118760" y="4971960"/>
              <a:ext cx="43776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4119120" y="5049720"/>
              <a:ext cx="40932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159440" y="481176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06160" y="4741920"/>
              <a:ext cx="721800" cy="172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130640" y="482796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084920" y="5051520"/>
              <a:ext cx="45720" cy="17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090680" y="1601640"/>
            <a:ext cx="3065400" cy="657000"/>
            <a:chOff x="4090680" y="1601640"/>
            <a:chExt cx="3065400" cy="657000"/>
          </a:xfrm>
        </p:grpSpPr>
        <p:sp>
          <p:nvSpPr>
            <p:cNvPr id="111" name=""/>
            <p:cNvSpPr/>
            <p:nvPr/>
          </p:nvSpPr>
          <p:spPr>
            <a:xfrm>
              <a:off x="5709960" y="1782720"/>
              <a:ext cx="1084680" cy="475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83480" y="1821600"/>
              <a:ext cx="372600" cy="372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87520" y="2058480"/>
              <a:ext cx="626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536720" y="2075400"/>
              <a:ext cx="550800" cy="13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63400" y="1991520"/>
              <a:ext cx="64512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565160" y="1877400"/>
              <a:ext cx="50508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90680" y="2077560"/>
              <a:ext cx="4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136040" y="1831680"/>
              <a:ext cx="437400" cy="5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137120" y="1909800"/>
              <a:ext cx="408960" cy="16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177080" y="1671480"/>
              <a:ext cx="407520" cy="20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3800" y="1601640"/>
              <a:ext cx="721800" cy="17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48280" y="1688040"/>
              <a:ext cx="45720" cy="16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02560" y="1911600"/>
              <a:ext cx="45720" cy="17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632040" y="3174840"/>
            <a:ext cx="335160" cy="300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560760"/>
            <a:ext cx="414360" cy="423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3680" y="1393920"/>
            <a:ext cx="476280" cy="476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38960" y="2133720"/>
            <a:ext cx="212760" cy="212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38960" y="4727520"/>
            <a:ext cx="265320" cy="265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7840" y="5199120"/>
            <a:ext cx="566640" cy="566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179000">
            <a:off x="3281400" y="2328480"/>
            <a:ext cx="1111320" cy="476280"/>
          </a:xfrm>
          <a:custGeom>
            <a:avLst/>
            <a:gdLst>
              <a:gd name="textAreaLeft" fmla="*/ 173520 w 1111320"/>
              <a:gd name="textAreaRight" fmla="*/ 972720 w 11113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287200">
            <a:off x="3279240" y="4160520"/>
            <a:ext cx="1111320" cy="476280"/>
          </a:xfrm>
          <a:custGeom>
            <a:avLst/>
            <a:gdLst>
              <a:gd name="textAreaLeft" fmla="*/ 173520 w 1111320"/>
              <a:gd name="textAreaRight" fmla="*/ 972720 w 11113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5760" y="819000"/>
            <a:ext cx="25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avoir évolu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9:39:05Z</dcterms:created>
  <dc:creator>Talon Joël</dc:creator>
  <dc:description/>
  <dc:language>en-US</dc:language>
  <cp:lastModifiedBy>TALON</cp:lastModifiedBy>
  <dcterms:modified xsi:type="dcterms:W3CDTF">2003-10-21T13:45:43Z</dcterms:modified>
  <cp:revision>19</cp:revision>
  <dc:subject/>
  <dc:title>Pédagogie de l'apprentissage de la STAB</dc:title>
</cp:coreProperties>
</file>