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APPLAUD.WAV" ContentType="audio/x-wav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F584-6391-4565-B8B6-96E942721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F858-A6A2-4104-80E5-52F249765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AADB-8DFF-4D41-AC96-BD778DE4B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661C-4EDB-4327-84A8-99D13309E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6311-BE56-45A0-8837-0534E3E6B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9D2C-65D3-4FB7-BEFF-D62C0803E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83F6-133B-4EC0-9945-709E757F4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A33D-0BDC-47F6-833C-920C6639A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DCAF-DBB6-411F-A4E8-BC78B213A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8E3E-687B-4B1D-A3A6-BC5125D2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D0C9-723D-455C-9916-6224DBB7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92E2-345C-4D54-9E2C-8F086EC5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E70D6-8A64-43B3-9191-48672768AA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audio" Target="../media/APPLAUD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audio" Target="../media/APPLAUD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audio" Target="../media/APPLAUD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3d9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-260280" y="0"/>
          <a:ext cx="9404280" cy="38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60280" y="0"/>
                    <a:ext cx="940428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398520" y="5849280"/>
            <a:ext cx="1757880" cy="803160"/>
            <a:chOff x="398520" y="5849280"/>
            <a:chExt cx="1757880" cy="803160"/>
          </a:xfrm>
        </p:grpSpPr>
        <p:sp>
          <p:nvSpPr>
            <p:cNvPr id="44" name=""/>
            <p:cNvSpPr/>
            <p:nvPr/>
          </p:nvSpPr>
          <p:spPr>
            <a:xfrm rot="20392200">
              <a:off x="1300320" y="6027840"/>
              <a:ext cx="638280" cy="3024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0392200">
              <a:off x="1902960" y="5907960"/>
              <a:ext cx="219240" cy="236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1018080" y="6310800"/>
              <a:ext cx="312840" cy="217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684000" y="6528240"/>
              <a:ext cx="333720" cy="31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960120" y="6268680"/>
              <a:ext cx="352080" cy="146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655920" y="6410160"/>
              <a:ext cx="307440" cy="24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438120" y="6561360"/>
              <a:ext cx="243360" cy="8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410040" y="6436080"/>
              <a:ext cx="252360" cy="5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428040" y="6544440"/>
              <a:ext cx="259200" cy="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 flipV="1">
              <a:off x="398520" y="6394320"/>
              <a:ext cx="266040" cy="30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rot="20392200">
              <a:off x="1352160" y="5918760"/>
              <a:ext cx="424440" cy="109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09680" y="6397200"/>
              <a:ext cx="10440" cy="10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3440" y="6540120"/>
              <a:ext cx="12600" cy="112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2473200" y="4461120"/>
            <a:ext cx="357480" cy="1665000"/>
            <a:chOff x="2473200" y="4461120"/>
            <a:chExt cx="357480" cy="1665000"/>
          </a:xfrm>
        </p:grpSpPr>
        <p:sp>
          <p:nvSpPr>
            <p:cNvPr id="58" name=""/>
            <p:cNvSpPr/>
            <p:nvPr/>
          </p:nvSpPr>
          <p:spPr>
            <a:xfrm rot="16200000">
              <a:off x="2406600" y="4822560"/>
              <a:ext cx="589320" cy="2588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6200000">
              <a:off x="2592720" y="4460760"/>
              <a:ext cx="202320" cy="2026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721600" y="5244120"/>
              <a:ext cx="82800" cy="340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2731320" y="5585040"/>
              <a:ext cx="73440" cy="299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684880" y="5247360"/>
              <a:ext cx="9360" cy="350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2623320" y="5594040"/>
              <a:ext cx="70560" cy="274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732040" y="5887080"/>
              <a:ext cx="0" cy="239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2598120" y="5864040"/>
              <a:ext cx="28800" cy="23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2640600" y="5879520"/>
              <a:ext cx="89280" cy="22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2510640" y="5858640"/>
              <a:ext cx="109800" cy="221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rot="16200000">
              <a:off x="2324160" y="4887360"/>
              <a:ext cx="392040" cy="93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20000" y="6070320"/>
              <a:ext cx="88200" cy="24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641680" y="6095520"/>
              <a:ext cx="93960" cy="24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2527200" y="2662560"/>
            <a:ext cx="356760" cy="1665000"/>
            <a:chOff x="2527200" y="2662560"/>
            <a:chExt cx="356760" cy="1665000"/>
          </a:xfrm>
        </p:grpSpPr>
        <p:sp>
          <p:nvSpPr>
            <p:cNvPr id="72" name=""/>
            <p:cNvSpPr/>
            <p:nvPr/>
          </p:nvSpPr>
          <p:spPr>
            <a:xfrm rot="16200000">
              <a:off x="2459880" y="3024000"/>
              <a:ext cx="589320" cy="2584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rot="16200000">
              <a:off x="2646720" y="2662560"/>
              <a:ext cx="202320" cy="2023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775600" y="3445560"/>
              <a:ext cx="82800" cy="340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2784960" y="3786480"/>
              <a:ext cx="73440" cy="299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738880" y="3448800"/>
              <a:ext cx="9360" cy="350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2677320" y="3795480"/>
              <a:ext cx="70560" cy="274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785680" y="4088520"/>
              <a:ext cx="0" cy="239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2652120" y="4065480"/>
              <a:ext cx="28800" cy="23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694600" y="4080960"/>
              <a:ext cx="89280" cy="22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2564640" y="4060080"/>
              <a:ext cx="109800" cy="221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16200000">
              <a:off x="2378160" y="3088800"/>
              <a:ext cx="392040" cy="93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74000" y="4271760"/>
              <a:ext cx="88200" cy="24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695680" y="4296960"/>
              <a:ext cx="93960" cy="24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2546280" y="740160"/>
            <a:ext cx="356760" cy="1665000"/>
            <a:chOff x="2546280" y="740160"/>
            <a:chExt cx="356760" cy="1665000"/>
          </a:xfrm>
        </p:grpSpPr>
        <p:sp>
          <p:nvSpPr>
            <p:cNvPr id="86" name=""/>
            <p:cNvSpPr/>
            <p:nvPr/>
          </p:nvSpPr>
          <p:spPr>
            <a:xfrm rot="16200000">
              <a:off x="2478960" y="1101600"/>
              <a:ext cx="589320" cy="2584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2665800" y="740160"/>
              <a:ext cx="202320" cy="2023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794680" y="1523160"/>
              <a:ext cx="82800" cy="340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04040" y="1864080"/>
              <a:ext cx="73440" cy="299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757960" y="1526400"/>
              <a:ext cx="9360" cy="350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2696400" y="1873080"/>
              <a:ext cx="70560" cy="274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804760" y="2166120"/>
              <a:ext cx="0" cy="239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2671200" y="2143080"/>
              <a:ext cx="28800" cy="23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2713680" y="2158560"/>
              <a:ext cx="89280" cy="22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2583720" y="2137680"/>
              <a:ext cx="109800" cy="221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rot="16200000">
              <a:off x="2397240" y="1166400"/>
              <a:ext cx="392040" cy="93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593080" y="2349360"/>
              <a:ext cx="88200" cy="24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714760" y="2374560"/>
              <a:ext cx="93960" cy="24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2095560" y="5676840"/>
            <a:ext cx="171360" cy="1713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90600" y="5915160"/>
            <a:ext cx="171720" cy="171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994120" y="4667400"/>
            <a:ext cx="190440" cy="1839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17800" y="4886280"/>
            <a:ext cx="345960" cy="34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943360" y="2809800"/>
            <a:ext cx="342720" cy="336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98800" y="3189240"/>
            <a:ext cx="250920" cy="260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33640" y="790560"/>
            <a:ext cx="419040" cy="4190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86280" y="1266840"/>
            <a:ext cx="104760" cy="104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378160" y="495360"/>
            <a:ext cx="286920" cy="429840"/>
            <a:chOff x="2378160" y="495360"/>
            <a:chExt cx="286920" cy="429840"/>
          </a:xfrm>
        </p:grpSpPr>
        <p:sp>
          <p:nvSpPr>
            <p:cNvPr id="108" name=""/>
            <p:cNvSpPr/>
            <p:nvPr/>
          </p:nvSpPr>
          <p:spPr>
            <a:xfrm>
              <a:off x="2448360" y="84996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488680" y="88992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03800" y="84816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555280" y="81000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07760" y="77148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65640" y="79848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404800" y="75636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459880" y="73728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538360" y="72216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84080" y="75636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498040" y="68976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547720" y="65736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84080" y="68220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478960" y="64800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415960" y="67248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399040" y="60588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440800" y="54864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86880" y="59832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38360" y="61164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26200" y="60372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70760" y="56592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629800" y="51228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36200" y="52380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458080" y="49536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378160" y="49536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3581280" y="1022400"/>
            <a:ext cx="1393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40160" y="942840"/>
            <a:ext cx="146160" cy="146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544000" y="73008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Vidage de la ST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10360" y="1411200"/>
            <a:ext cx="0" cy="4514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3457440" y="5943600"/>
            <a:ext cx="1393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68600" y="547560"/>
            <a:ext cx="154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entury Gothic"/>
              </a:rPr>
              <a:t>10à12 mèt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70120" y="6035760"/>
            <a:ext cx="11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entury Gothic"/>
              </a:rPr>
              <a:t>20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1600" spc="-1" strike="noStrike">
                <a:solidFill>
                  <a:srgbClr val="ffff99"/>
                </a:solidFill>
                <a:latin typeface="Century Gothic"/>
              </a:rPr>
              <a:t>mèt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169080" y="4979880"/>
            <a:ext cx="198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efa06"/>
                </a:solidFill>
                <a:latin typeface="Century Gothic"/>
              </a:rPr>
              <a:t>ET 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efa06"/>
                </a:solidFill>
                <a:latin typeface="Century Gothic"/>
              </a:rPr>
              <a:t>RECOMM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9400" y="612720"/>
            <a:ext cx="1506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ahoma"/>
              </a:rPr>
              <a:t>Prendre consci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ahoma"/>
              </a:rPr>
              <a:t>De la vitesse et contrôler l’ascen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75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75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3d9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-260280" y="0"/>
          <a:ext cx="9404280" cy="38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60280" y="0"/>
                    <a:ext cx="940428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4" name=""/>
          <p:cNvGrpSpPr/>
          <p:nvPr/>
        </p:nvGrpSpPr>
        <p:grpSpPr>
          <a:xfrm>
            <a:off x="855720" y="5496120"/>
            <a:ext cx="892080" cy="928080"/>
            <a:chOff x="855720" y="5496120"/>
            <a:chExt cx="892080" cy="928080"/>
          </a:xfrm>
        </p:grpSpPr>
        <p:sp>
          <p:nvSpPr>
            <p:cNvPr id="145" name=""/>
            <p:cNvSpPr/>
            <p:nvPr/>
          </p:nvSpPr>
          <p:spPr>
            <a:xfrm rot="18691200">
              <a:off x="1268640" y="5711040"/>
              <a:ext cx="408240" cy="179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18691200">
              <a:off x="1578240" y="5524920"/>
              <a:ext cx="140400" cy="1404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1235520" y="5962320"/>
              <a:ext cx="113400" cy="21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1060200" y="6176520"/>
              <a:ext cx="175320" cy="121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1172520" y="5946840"/>
              <a:ext cx="156240" cy="186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1011600" y="6130800"/>
              <a:ext cx="162720" cy="109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949680" y="6300360"/>
              <a:ext cx="109800" cy="123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891720" y="6240240"/>
              <a:ext cx="123840" cy="109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913320" y="6295680"/>
              <a:ext cx="148320" cy="7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855720" y="6234120"/>
              <a:ext cx="158760" cy="64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8691200">
              <a:off x="1251360" y="5675760"/>
              <a:ext cx="271800" cy="65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64720" y="6298200"/>
              <a:ext cx="34920" cy="5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16560" y="6367320"/>
              <a:ext cx="37440" cy="5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1785960" y="4373640"/>
            <a:ext cx="247320" cy="1154160"/>
            <a:chOff x="1785960" y="4373640"/>
            <a:chExt cx="247320" cy="1154160"/>
          </a:xfrm>
        </p:grpSpPr>
        <p:sp>
          <p:nvSpPr>
            <p:cNvPr id="159" name=""/>
            <p:cNvSpPr/>
            <p:nvPr/>
          </p:nvSpPr>
          <p:spPr>
            <a:xfrm rot="16200000">
              <a:off x="1739520" y="4624560"/>
              <a:ext cx="408240" cy="179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16200000">
              <a:off x="1868760" y="4373640"/>
              <a:ext cx="140400" cy="1404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958040" y="4917240"/>
              <a:ext cx="57240" cy="23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964520" y="5152680"/>
              <a:ext cx="50760" cy="20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932840" y="4919040"/>
              <a:ext cx="6120" cy="24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1890000" y="5159160"/>
              <a:ext cx="48960" cy="190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965240" y="5362200"/>
              <a:ext cx="0" cy="165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872720" y="5346360"/>
              <a:ext cx="19800" cy="16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901880" y="5357160"/>
              <a:ext cx="61920" cy="153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1811880" y="5342400"/>
              <a:ext cx="75960" cy="153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6200000">
              <a:off x="1682640" y="4669200"/>
              <a:ext cx="271800" cy="65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18360" y="5489640"/>
              <a:ext cx="61200" cy="1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902600" y="5506920"/>
              <a:ext cx="65160" cy="1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2101680" y="3281400"/>
            <a:ext cx="247320" cy="1154160"/>
            <a:chOff x="2101680" y="3281400"/>
            <a:chExt cx="247320" cy="1154160"/>
          </a:xfrm>
        </p:grpSpPr>
        <p:sp>
          <p:nvSpPr>
            <p:cNvPr id="173" name=""/>
            <p:cNvSpPr/>
            <p:nvPr/>
          </p:nvSpPr>
          <p:spPr>
            <a:xfrm rot="16200000">
              <a:off x="2055240" y="3532320"/>
              <a:ext cx="408240" cy="179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16200000">
              <a:off x="2184480" y="3281400"/>
              <a:ext cx="140400" cy="1404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273760" y="3825000"/>
              <a:ext cx="57240" cy="23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2280240" y="4060440"/>
              <a:ext cx="50760" cy="20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48560" y="3826800"/>
              <a:ext cx="6120" cy="24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2205720" y="4066920"/>
              <a:ext cx="48960" cy="190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280960" y="4269960"/>
              <a:ext cx="0" cy="165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2188440" y="4254120"/>
              <a:ext cx="19800" cy="16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217600" y="4264920"/>
              <a:ext cx="61920" cy="153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2127600" y="4250160"/>
              <a:ext cx="75960" cy="153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16200000">
              <a:off x="1998360" y="3576960"/>
              <a:ext cx="271800" cy="65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134080" y="4397400"/>
              <a:ext cx="61200" cy="1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218320" y="4414680"/>
              <a:ext cx="65160" cy="1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3160800" y="2998800"/>
            <a:ext cx="247320" cy="1154160"/>
            <a:chOff x="3160800" y="2998800"/>
            <a:chExt cx="247320" cy="1154160"/>
          </a:xfrm>
        </p:grpSpPr>
        <p:sp>
          <p:nvSpPr>
            <p:cNvPr id="187" name=""/>
            <p:cNvSpPr/>
            <p:nvPr/>
          </p:nvSpPr>
          <p:spPr>
            <a:xfrm rot="16200000">
              <a:off x="3114360" y="3249720"/>
              <a:ext cx="408240" cy="179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16200000">
              <a:off x="3243600" y="2998800"/>
              <a:ext cx="140400" cy="1404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332880" y="3542400"/>
              <a:ext cx="57240" cy="23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3339360" y="3777840"/>
              <a:ext cx="50760" cy="20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307680" y="3544200"/>
              <a:ext cx="6120" cy="24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3264840" y="3784320"/>
              <a:ext cx="48960" cy="190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40080" y="3987360"/>
              <a:ext cx="0" cy="165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3247560" y="3971520"/>
              <a:ext cx="19800" cy="16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3276720" y="3982320"/>
              <a:ext cx="61920" cy="153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3186720" y="3967560"/>
              <a:ext cx="75960" cy="153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6200000">
              <a:off x="3057480" y="3294360"/>
              <a:ext cx="271800" cy="65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193200" y="4114800"/>
              <a:ext cx="61200" cy="1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77440" y="4132080"/>
              <a:ext cx="65160" cy="1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3637080" y="1889280"/>
            <a:ext cx="247320" cy="1153440"/>
            <a:chOff x="3637080" y="1889280"/>
            <a:chExt cx="247320" cy="1153440"/>
          </a:xfrm>
        </p:grpSpPr>
        <p:sp>
          <p:nvSpPr>
            <p:cNvPr id="201" name=""/>
            <p:cNvSpPr/>
            <p:nvPr/>
          </p:nvSpPr>
          <p:spPr>
            <a:xfrm rot="16200000">
              <a:off x="3590640" y="2139480"/>
              <a:ext cx="408240" cy="179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16200000">
              <a:off x="3719880" y="1888920"/>
              <a:ext cx="140040" cy="1404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809160" y="2432160"/>
              <a:ext cx="57240" cy="23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3815640" y="2667600"/>
              <a:ext cx="50760" cy="20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783960" y="2433960"/>
              <a:ext cx="6120" cy="24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3741120" y="2674080"/>
              <a:ext cx="48960" cy="190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816360" y="2877120"/>
              <a:ext cx="0" cy="165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3723840" y="2861280"/>
              <a:ext cx="19800" cy="16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3753000" y="2872080"/>
              <a:ext cx="61920" cy="153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3663000" y="2857320"/>
              <a:ext cx="75960" cy="153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6200000">
              <a:off x="3533760" y="2184480"/>
              <a:ext cx="271800" cy="65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669480" y="3004560"/>
              <a:ext cx="61200" cy="1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753720" y="3021840"/>
              <a:ext cx="65160" cy="1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4043520" y="741240"/>
            <a:ext cx="246960" cy="1154160"/>
            <a:chOff x="4043520" y="741240"/>
            <a:chExt cx="246960" cy="1154160"/>
          </a:xfrm>
        </p:grpSpPr>
        <p:sp>
          <p:nvSpPr>
            <p:cNvPr id="215" name=""/>
            <p:cNvSpPr/>
            <p:nvPr/>
          </p:nvSpPr>
          <p:spPr>
            <a:xfrm rot="16200000">
              <a:off x="3996720" y="992160"/>
              <a:ext cx="408240" cy="178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16200000">
              <a:off x="4125960" y="741240"/>
              <a:ext cx="140400" cy="1400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215600" y="1284840"/>
              <a:ext cx="57240" cy="23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4221720" y="1520280"/>
              <a:ext cx="50760" cy="20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90040" y="1286640"/>
              <a:ext cx="6120" cy="24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4147200" y="1526760"/>
              <a:ext cx="48960" cy="190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22440" y="1729800"/>
              <a:ext cx="0" cy="165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4129920" y="1713960"/>
              <a:ext cx="19800" cy="16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4159080" y="1724760"/>
              <a:ext cx="61920" cy="153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4069440" y="1710000"/>
              <a:ext cx="75960" cy="153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16200000">
              <a:off x="3939840" y="1036800"/>
              <a:ext cx="271800" cy="64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075920" y="1857240"/>
              <a:ext cx="60840" cy="1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160160" y="1874520"/>
              <a:ext cx="64800" cy="1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268240" y="765720"/>
            <a:ext cx="1105560" cy="556200"/>
            <a:chOff x="5268240" y="765720"/>
            <a:chExt cx="1105560" cy="556200"/>
          </a:xfrm>
        </p:grpSpPr>
        <p:sp>
          <p:nvSpPr>
            <p:cNvPr id="229" name=""/>
            <p:cNvSpPr/>
            <p:nvPr/>
          </p:nvSpPr>
          <p:spPr>
            <a:xfrm rot="20166600">
              <a:off x="5832000" y="882000"/>
              <a:ext cx="408240" cy="179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20166600">
              <a:off x="6211080" y="788040"/>
              <a:ext cx="140040" cy="1404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5664240" y="1067040"/>
              <a:ext cx="192240" cy="147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5454360" y="1215000"/>
              <a:ext cx="210240" cy="37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5625000" y="1044720"/>
              <a:ext cx="219960" cy="10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5433840" y="1147680"/>
              <a:ext cx="193680" cy="32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5301360" y="1253880"/>
              <a:ext cx="151200" cy="67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5279400" y="1181160"/>
              <a:ext cx="158400" cy="4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5290920" y="1250640"/>
              <a:ext cx="165960" cy="5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 flipV="1">
              <a:off x="5268240" y="1167840"/>
              <a:ext cx="171000" cy="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20166600">
              <a:off x="5860800" y="819720"/>
              <a:ext cx="271800" cy="65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276520" y="1171440"/>
              <a:ext cx="9360" cy="6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94880" y="1255320"/>
              <a:ext cx="11160" cy="66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1708200" y="5708520"/>
            <a:ext cx="74520" cy="74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28640" y="5842080"/>
            <a:ext cx="230400" cy="225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104920" y="4718160"/>
            <a:ext cx="12240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452680" y="3629160"/>
            <a:ext cx="77760" cy="81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089080" y="4540320"/>
            <a:ext cx="154080" cy="1540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374920" y="3343320"/>
            <a:ext cx="228600" cy="233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471840" y="3328920"/>
            <a:ext cx="263520" cy="274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527280" y="3162240"/>
            <a:ext cx="119160" cy="119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941640" y="1962000"/>
            <a:ext cx="214560" cy="2048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62520" y="2217600"/>
            <a:ext cx="191880" cy="200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346640" y="863640"/>
            <a:ext cx="152280" cy="146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357800" y="1055520"/>
            <a:ext cx="1537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27800" y="752400"/>
            <a:ext cx="74520" cy="745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386400" y="888840"/>
            <a:ext cx="15408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613560" y="530280"/>
            <a:ext cx="2530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4ff13"/>
                </a:solidFill>
                <a:latin typeface="Century Gothic"/>
              </a:rPr>
              <a:t>EQUILIBRE SUR VENTILATION NORMALE DANS LA ZONE DE 8 A 12 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1984320" y="3017880"/>
            <a:ext cx="286920" cy="429840"/>
            <a:chOff x="1984320" y="3017880"/>
            <a:chExt cx="286920" cy="429840"/>
          </a:xfrm>
        </p:grpSpPr>
        <p:sp>
          <p:nvSpPr>
            <p:cNvPr id="258" name=""/>
            <p:cNvSpPr/>
            <p:nvPr/>
          </p:nvSpPr>
          <p:spPr>
            <a:xfrm>
              <a:off x="2054520" y="337248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094840" y="341244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109960" y="337068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161440" y="333252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113920" y="329400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071800" y="332100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010960" y="327888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066040" y="325980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144520" y="324468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190240" y="327888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104200" y="321228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153880" y="317988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190240" y="320472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085120" y="317052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022120" y="319500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05200" y="312840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046960" y="307116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093040" y="312084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144520" y="313416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232360" y="312624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176920" y="308844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235960" y="303480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142360" y="304632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064240" y="301788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984320" y="301788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3897360" y="484200"/>
            <a:ext cx="286920" cy="429840"/>
            <a:chOff x="3897360" y="484200"/>
            <a:chExt cx="286920" cy="429840"/>
          </a:xfrm>
        </p:grpSpPr>
        <p:sp>
          <p:nvSpPr>
            <p:cNvPr id="284" name=""/>
            <p:cNvSpPr/>
            <p:nvPr/>
          </p:nvSpPr>
          <p:spPr>
            <a:xfrm>
              <a:off x="3967560" y="83880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007880" y="87876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023000" y="83700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074480" y="79884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026960" y="76032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984840" y="78732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924000" y="74520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79080" y="72612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057560" y="71100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103280" y="74520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017240" y="67860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066920" y="64620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103280" y="67104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998160" y="63684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935160" y="66132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918240" y="59472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960000" y="53748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006080" y="58716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057560" y="60048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145400" y="59256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089960" y="55476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149000" y="50112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055400" y="51264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977280" y="48420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897360" y="48420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6031080" y="412920"/>
            <a:ext cx="286920" cy="429840"/>
            <a:chOff x="6031080" y="412920"/>
            <a:chExt cx="286920" cy="429840"/>
          </a:xfrm>
        </p:grpSpPr>
        <p:sp>
          <p:nvSpPr>
            <p:cNvPr id="310" name=""/>
            <p:cNvSpPr/>
            <p:nvPr/>
          </p:nvSpPr>
          <p:spPr>
            <a:xfrm>
              <a:off x="6101280" y="76752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141600" y="80748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156720" y="76572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208200" y="72756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160680" y="68904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118560" y="71604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57720" y="67392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112800" y="65484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191280" y="63972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237000" y="67392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150960" y="60732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200640" y="57492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237000" y="59976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131880" y="56556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068880" y="59004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51960" y="52344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93720" y="46620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139800" y="51588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191280" y="52920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279120" y="52128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223680" y="48348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282720" y="42984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189120" y="44136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111000" y="41292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031080" y="41292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4554360" y="80964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Century Gothic"/>
              </a:rPr>
              <a:t>8 à 12 mèt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512000" y="6259680"/>
            <a:ext cx="93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Century Gothic"/>
              </a:rPr>
              <a:t>20 mèt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451560" y="1447920"/>
            <a:ext cx="0" cy="4419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3314520" y="6172200"/>
            <a:ext cx="2857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340080" y="4824360"/>
            <a:ext cx="270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fa06"/>
                </a:solidFill>
                <a:latin typeface="Century Gothic"/>
              </a:rPr>
              <a:t>ET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fa06"/>
                </a:solidFill>
                <a:latin typeface="Century Gothic"/>
              </a:rPr>
              <a:t>RECOMM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40760" y="527040"/>
            <a:ext cx="1814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ahoma"/>
              </a:rPr>
              <a:t>Remonter 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ahoma"/>
              </a:rPr>
              <a:t>Contrôla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ahoma"/>
              </a:rPr>
              <a:t>sa vite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ahoma"/>
              </a:rPr>
              <a:t>et se stabilis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ahoma"/>
              </a:rPr>
              <a:t>entre 8 et 12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75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75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3d9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1" name=""/>
          <p:cNvGraphicFramePr/>
          <p:nvPr/>
        </p:nvGraphicFramePr>
        <p:xfrm>
          <a:off x="-158760" y="0"/>
          <a:ext cx="9493200" cy="38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8760" y="0"/>
                    <a:ext cx="949320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3" name=""/>
          <p:cNvGrpSpPr/>
          <p:nvPr/>
        </p:nvGrpSpPr>
        <p:grpSpPr>
          <a:xfrm>
            <a:off x="5268240" y="765720"/>
            <a:ext cx="1105560" cy="556200"/>
            <a:chOff x="5268240" y="765720"/>
            <a:chExt cx="1105560" cy="556200"/>
          </a:xfrm>
        </p:grpSpPr>
        <p:sp>
          <p:nvSpPr>
            <p:cNvPr id="344" name=""/>
            <p:cNvSpPr/>
            <p:nvPr/>
          </p:nvSpPr>
          <p:spPr>
            <a:xfrm rot="20166600">
              <a:off x="5832000" y="882000"/>
              <a:ext cx="408240" cy="179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20166600">
              <a:off x="6211080" y="788040"/>
              <a:ext cx="140040" cy="1404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5664240" y="1067040"/>
              <a:ext cx="192240" cy="147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5454360" y="1215000"/>
              <a:ext cx="210240" cy="37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5625000" y="1044720"/>
              <a:ext cx="219960" cy="10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5433840" y="1147680"/>
              <a:ext cx="193680" cy="32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5301360" y="1253880"/>
              <a:ext cx="151200" cy="67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5279400" y="1181160"/>
              <a:ext cx="158400" cy="4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5290920" y="1250640"/>
              <a:ext cx="165960" cy="5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5268240" y="1167840"/>
              <a:ext cx="171000" cy="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20166600">
              <a:off x="5860800" y="819720"/>
              <a:ext cx="271800" cy="65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276520" y="1171440"/>
              <a:ext cx="9360" cy="6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294880" y="1255320"/>
              <a:ext cx="11160" cy="66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6427800" y="75240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386400" y="888840"/>
            <a:ext cx="15408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566040" y="590400"/>
            <a:ext cx="1023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STAB V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53720" y="86184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VENTILATION NORM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6031080" y="412920"/>
            <a:ext cx="286920" cy="429840"/>
            <a:chOff x="6031080" y="412920"/>
            <a:chExt cx="286920" cy="429840"/>
          </a:xfrm>
        </p:grpSpPr>
        <p:sp>
          <p:nvSpPr>
            <p:cNvPr id="362" name=""/>
            <p:cNvSpPr/>
            <p:nvPr/>
          </p:nvSpPr>
          <p:spPr>
            <a:xfrm>
              <a:off x="6101280" y="76752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141600" y="80748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156720" y="76572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08200" y="72756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160680" y="68904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118560" y="71604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057720" y="67392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112800" y="65484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191280" y="63972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237000" y="67392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150960" y="60732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200640" y="57492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237000" y="59976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131880" y="56556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068880" y="59004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051960" y="52344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093720" y="46620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139800" y="51588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191280" y="52920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279120" y="52128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223680" y="48348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282720" y="42984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89120" y="44136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111000" y="41292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031080" y="412920"/>
              <a:ext cx="35280" cy="3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4096800" y="1390680"/>
            <a:ext cx="1061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fa06"/>
                </a:solidFill>
                <a:latin typeface="Century Gothic"/>
              </a:rPr>
              <a:t>En dessous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fa06"/>
                </a:solidFill>
                <a:latin typeface="Century Gothic"/>
              </a:rPr>
              <a:t> </a:t>
            </a:r>
            <a:r>
              <a:rPr b="1" lang="en-US" sz="1000" spc="-1" strike="noStrike">
                <a:solidFill>
                  <a:srgbClr val="eefa06"/>
                </a:solidFill>
                <a:latin typeface="Century Gothic"/>
              </a:rPr>
              <a:t>la z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fa06"/>
                </a:solidFill>
                <a:latin typeface="Century Gothic"/>
              </a:rPr>
              <a:t> </a:t>
            </a:r>
            <a:r>
              <a:rPr b="1" lang="en-US" sz="1000" spc="-1" strike="noStrike">
                <a:solidFill>
                  <a:srgbClr val="eefa06"/>
                </a:solidFill>
                <a:latin typeface="Century Gothic"/>
              </a:rPr>
              <a:t>de palier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fa06"/>
                </a:solidFill>
                <a:latin typeface="Century Gothic"/>
              </a:rPr>
              <a:t> </a:t>
            </a:r>
            <a:r>
              <a:rPr b="1" lang="en-US" sz="1000" spc="-1" strike="noStrike">
                <a:solidFill>
                  <a:srgbClr val="eefa06"/>
                </a:solidFill>
                <a:latin typeface="Century Gothic"/>
              </a:rPr>
              <a:t>3 à 6 mètres</a:t>
            </a: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898920" y="5646240"/>
            <a:ext cx="769320" cy="801000"/>
            <a:chOff x="898920" y="5646240"/>
            <a:chExt cx="769320" cy="801000"/>
          </a:xfrm>
        </p:grpSpPr>
        <p:sp>
          <p:nvSpPr>
            <p:cNvPr id="389" name=""/>
            <p:cNvSpPr/>
            <p:nvPr/>
          </p:nvSpPr>
          <p:spPr>
            <a:xfrm rot="18691200">
              <a:off x="1254960" y="5831640"/>
              <a:ext cx="352080" cy="155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18691200">
              <a:off x="1522080" y="5671080"/>
              <a:ext cx="120960" cy="1213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1226880" y="6048720"/>
              <a:ext cx="97560" cy="18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1075320" y="6233760"/>
              <a:ext cx="151200" cy="104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1172160" y="6035040"/>
              <a:ext cx="135000" cy="160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1033200" y="6194160"/>
              <a:ext cx="140400" cy="9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979920" y="6340320"/>
              <a:ext cx="94680" cy="10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929160" y="6288120"/>
              <a:ext cx="10692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948600" y="6336000"/>
              <a:ext cx="127800" cy="64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898920" y="6282720"/>
              <a:ext cx="137160" cy="55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rot="18691200">
              <a:off x="1239480" y="5801040"/>
              <a:ext cx="234360" cy="56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06840" y="6338160"/>
              <a:ext cx="29880" cy="46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51120" y="6397560"/>
              <a:ext cx="32400" cy="4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1701720" y="4677840"/>
            <a:ext cx="212760" cy="995760"/>
            <a:chOff x="1701720" y="4677840"/>
            <a:chExt cx="212760" cy="995760"/>
          </a:xfrm>
        </p:grpSpPr>
        <p:sp>
          <p:nvSpPr>
            <p:cNvPr id="403" name=""/>
            <p:cNvSpPr/>
            <p:nvPr/>
          </p:nvSpPr>
          <p:spPr>
            <a:xfrm rot="16200000">
              <a:off x="1661400" y="4894560"/>
              <a:ext cx="352080" cy="1540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rot="16200000">
              <a:off x="1772640" y="4677840"/>
              <a:ext cx="120960" cy="120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849680" y="5146560"/>
              <a:ext cx="49320" cy="20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1855080" y="5349960"/>
              <a:ext cx="43560" cy="17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827720" y="5148000"/>
              <a:ext cx="5400" cy="20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1790640" y="5355720"/>
              <a:ext cx="42120" cy="16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855800" y="5530680"/>
              <a:ext cx="0" cy="14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1776240" y="5517000"/>
              <a:ext cx="16920" cy="142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1801080" y="5526000"/>
              <a:ext cx="53280" cy="13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1723680" y="5513040"/>
              <a:ext cx="65880" cy="13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rot="16200000">
              <a:off x="1612440" y="4933080"/>
              <a:ext cx="234360" cy="55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729440" y="5640120"/>
              <a:ext cx="52560" cy="14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802160" y="5655240"/>
              <a:ext cx="55800" cy="14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1973160" y="3735000"/>
            <a:ext cx="214560" cy="995760"/>
            <a:chOff x="1973160" y="3735000"/>
            <a:chExt cx="214560" cy="995760"/>
          </a:xfrm>
        </p:grpSpPr>
        <p:sp>
          <p:nvSpPr>
            <p:cNvPr id="417" name=""/>
            <p:cNvSpPr/>
            <p:nvPr/>
          </p:nvSpPr>
          <p:spPr>
            <a:xfrm rot="16200000">
              <a:off x="1933920" y="3951000"/>
              <a:ext cx="352080" cy="155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rot="16200000">
              <a:off x="2045160" y="3734640"/>
              <a:ext cx="120960" cy="1216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122200" y="4203720"/>
              <a:ext cx="49680" cy="20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2127960" y="4407120"/>
              <a:ext cx="43920" cy="17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100240" y="4205160"/>
              <a:ext cx="5760" cy="20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2063160" y="4412880"/>
              <a:ext cx="42480" cy="16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28680" y="4587840"/>
              <a:ext cx="0" cy="14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2048400" y="4574160"/>
              <a:ext cx="16920" cy="142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2073600" y="4583160"/>
              <a:ext cx="53280" cy="13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1995480" y="4570200"/>
              <a:ext cx="65880" cy="13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1883880" y="3989880"/>
              <a:ext cx="234360" cy="56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1240" y="4697280"/>
              <a:ext cx="52920" cy="14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074320" y="4712400"/>
              <a:ext cx="56160" cy="14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2887560" y="3492000"/>
            <a:ext cx="212760" cy="995760"/>
            <a:chOff x="2887560" y="3492000"/>
            <a:chExt cx="212760" cy="995760"/>
          </a:xfrm>
        </p:grpSpPr>
        <p:sp>
          <p:nvSpPr>
            <p:cNvPr id="431" name=""/>
            <p:cNvSpPr/>
            <p:nvPr/>
          </p:nvSpPr>
          <p:spPr>
            <a:xfrm rot="16200000">
              <a:off x="2847240" y="3708720"/>
              <a:ext cx="352080" cy="1540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6200000">
              <a:off x="2958480" y="3492000"/>
              <a:ext cx="120960" cy="120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520" y="3960720"/>
              <a:ext cx="49320" cy="20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3040920" y="4164120"/>
              <a:ext cx="43560" cy="17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013560" y="3962160"/>
              <a:ext cx="5400" cy="20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976480" y="4169880"/>
              <a:ext cx="42120" cy="16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041640" y="4344840"/>
              <a:ext cx="0" cy="14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2962080" y="4331160"/>
              <a:ext cx="16920" cy="142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2986920" y="4340160"/>
              <a:ext cx="53280" cy="13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2909520" y="4327200"/>
              <a:ext cx="65880" cy="13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16200000">
              <a:off x="2798280" y="3747240"/>
              <a:ext cx="234360" cy="55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915280" y="4454280"/>
              <a:ext cx="52560" cy="14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988000" y="4469400"/>
              <a:ext cx="55800" cy="14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3298680" y="2534760"/>
            <a:ext cx="212760" cy="995760"/>
            <a:chOff x="3298680" y="2534760"/>
            <a:chExt cx="212760" cy="995760"/>
          </a:xfrm>
        </p:grpSpPr>
        <p:sp>
          <p:nvSpPr>
            <p:cNvPr id="445" name=""/>
            <p:cNvSpPr/>
            <p:nvPr/>
          </p:nvSpPr>
          <p:spPr>
            <a:xfrm rot="16200000">
              <a:off x="3258360" y="2751480"/>
              <a:ext cx="352080" cy="1540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16200000">
              <a:off x="3369600" y="2534760"/>
              <a:ext cx="120960" cy="120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446640" y="3003480"/>
              <a:ext cx="49320" cy="20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3452040" y="3206880"/>
              <a:ext cx="43560" cy="17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424680" y="3004920"/>
              <a:ext cx="5400" cy="20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3387600" y="3212640"/>
              <a:ext cx="42120" cy="16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452760" y="3387600"/>
              <a:ext cx="0" cy="14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3373200" y="3373920"/>
              <a:ext cx="16920" cy="142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3398040" y="3382920"/>
              <a:ext cx="53280" cy="13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3320640" y="3369960"/>
              <a:ext cx="65880" cy="13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rot="16200000">
              <a:off x="3209400" y="2790000"/>
              <a:ext cx="234360" cy="55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326400" y="3497040"/>
              <a:ext cx="52560" cy="14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399120" y="3512160"/>
              <a:ext cx="55800" cy="14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3648240" y="1544400"/>
            <a:ext cx="214200" cy="995760"/>
            <a:chOff x="3648240" y="1544400"/>
            <a:chExt cx="214200" cy="995760"/>
          </a:xfrm>
        </p:grpSpPr>
        <p:sp>
          <p:nvSpPr>
            <p:cNvPr id="459" name=""/>
            <p:cNvSpPr/>
            <p:nvPr/>
          </p:nvSpPr>
          <p:spPr>
            <a:xfrm rot="16200000">
              <a:off x="3608640" y="1760400"/>
              <a:ext cx="352080" cy="155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rot="16200000">
              <a:off x="3719880" y="1544040"/>
              <a:ext cx="120960" cy="1213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797280" y="2013120"/>
              <a:ext cx="49680" cy="20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3802680" y="2216520"/>
              <a:ext cx="43920" cy="17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774960" y="2014560"/>
              <a:ext cx="5760" cy="20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3738240" y="2222280"/>
              <a:ext cx="42480" cy="16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803400" y="2397240"/>
              <a:ext cx="0" cy="14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3723120" y="2383560"/>
              <a:ext cx="16920" cy="142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3748680" y="2392560"/>
              <a:ext cx="53280" cy="13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3670560" y="2379600"/>
              <a:ext cx="65880" cy="13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3558960" y="1799280"/>
              <a:ext cx="234360" cy="56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676320" y="2506680"/>
              <a:ext cx="52920" cy="14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749040" y="2521800"/>
              <a:ext cx="56160" cy="14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2" name=""/>
          <p:cNvSpPr/>
          <p:nvPr/>
        </p:nvSpPr>
        <p:spPr>
          <a:xfrm>
            <a:off x="1633680" y="5829480"/>
            <a:ext cx="64800" cy="64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565280" y="5945040"/>
            <a:ext cx="198360" cy="193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6400" y="4975200"/>
            <a:ext cx="104760" cy="104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276640" y="4035600"/>
            <a:ext cx="66600" cy="69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962000" y="4821120"/>
            <a:ext cx="133560" cy="1335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209680" y="3789360"/>
            <a:ext cx="196920" cy="201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156120" y="3776760"/>
            <a:ext cx="226800" cy="236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203640" y="3633840"/>
            <a:ext cx="102960" cy="1015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560760" y="2597040"/>
            <a:ext cx="185760" cy="1778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578400" y="2817720"/>
            <a:ext cx="166680" cy="17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909960" y="1649520"/>
            <a:ext cx="131760" cy="126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919680" y="1816200"/>
            <a:ext cx="13320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1871640" y="3508200"/>
            <a:ext cx="248760" cy="371520"/>
            <a:chOff x="1871640" y="3508200"/>
            <a:chExt cx="248760" cy="371520"/>
          </a:xfrm>
        </p:grpSpPr>
        <p:sp>
          <p:nvSpPr>
            <p:cNvPr id="485" name=""/>
            <p:cNvSpPr/>
            <p:nvPr/>
          </p:nvSpPr>
          <p:spPr>
            <a:xfrm>
              <a:off x="1932480" y="3814560"/>
              <a:ext cx="30600" cy="30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967400" y="3849120"/>
              <a:ext cx="30600" cy="30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980720" y="3812760"/>
              <a:ext cx="30600" cy="30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025360" y="3779640"/>
              <a:ext cx="30600" cy="30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983960" y="3746880"/>
              <a:ext cx="30600" cy="30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947600" y="3769920"/>
              <a:ext cx="30600" cy="30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894680" y="3733560"/>
              <a:ext cx="30600" cy="30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942560" y="3717000"/>
              <a:ext cx="30600" cy="30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010600" y="3704040"/>
              <a:ext cx="30600" cy="30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050200" y="3733560"/>
              <a:ext cx="30600" cy="30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975680" y="3675960"/>
              <a:ext cx="30600" cy="30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018880" y="3648240"/>
              <a:ext cx="30600" cy="30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050200" y="3669480"/>
              <a:ext cx="30600" cy="30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959120" y="3639960"/>
              <a:ext cx="30600" cy="30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904400" y="3661200"/>
              <a:ext cx="30600" cy="30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889640" y="3603600"/>
              <a:ext cx="30600" cy="30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926000" y="3554280"/>
              <a:ext cx="30600" cy="30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965960" y="3597120"/>
              <a:ext cx="30600" cy="30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010600" y="3608640"/>
              <a:ext cx="30600" cy="30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086560" y="3601800"/>
              <a:ext cx="30600" cy="30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038680" y="3569040"/>
              <a:ext cx="30600" cy="30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089800" y="3522960"/>
              <a:ext cx="30600" cy="30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008800" y="3532680"/>
              <a:ext cx="30600" cy="30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941120" y="3508200"/>
              <a:ext cx="30600" cy="30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871640" y="3508200"/>
              <a:ext cx="30600" cy="30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3522600" y="1322280"/>
            <a:ext cx="247680" cy="371520"/>
            <a:chOff x="3522600" y="1322280"/>
            <a:chExt cx="247680" cy="371520"/>
          </a:xfrm>
        </p:grpSpPr>
        <p:sp>
          <p:nvSpPr>
            <p:cNvPr id="511" name=""/>
            <p:cNvSpPr/>
            <p:nvPr/>
          </p:nvSpPr>
          <p:spPr>
            <a:xfrm>
              <a:off x="3583080" y="1628640"/>
              <a:ext cx="30600" cy="30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618000" y="1663200"/>
              <a:ext cx="30600" cy="30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630960" y="1626840"/>
              <a:ext cx="30600" cy="30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675600" y="1593720"/>
              <a:ext cx="30600" cy="30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634200" y="1560960"/>
              <a:ext cx="30600" cy="30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598200" y="1584000"/>
              <a:ext cx="30600" cy="30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545280" y="1547640"/>
              <a:ext cx="30600" cy="30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593160" y="1531080"/>
              <a:ext cx="30600" cy="30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660480" y="1518120"/>
              <a:ext cx="30600" cy="30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700080" y="1547640"/>
              <a:ext cx="30600" cy="30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625920" y="1490040"/>
              <a:ext cx="30600" cy="30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668760" y="1462320"/>
              <a:ext cx="30600" cy="30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700080" y="1483560"/>
              <a:ext cx="30600" cy="30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609720" y="1454040"/>
              <a:ext cx="30600" cy="30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555360" y="1475280"/>
              <a:ext cx="30600" cy="30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540600" y="1417680"/>
              <a:ext cx="30600" cy="30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576600" y="1368360"/>
              <a:ext cx="30600" cy="30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16200" y="1411200"/>
              <a:ext cx="30600" cy="30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660480" y="1422720"/>
              <a:ext cx="30600" cy="30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36440" y="1415880"/>
              <a:ext cx="30600" cy="30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688560" y="1383120"/>
              <a:ext cx="30600" cy="30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739680" y="1337040"/>
              <a:ext cx="30600" cy="30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659040" y="1346760"/>
              <a:ext cx="30600" cy="30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591720" y="1322280"/>
              <a:ext cx="30600" cy="30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22600" y="1322280"/>
              <a:ext cx="30600" cy="30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1191600" y="6357960"/>
            <a:ext cx="93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efa06"/>
                </a:solidFill>
                <a:latin typeface="Century Gothic"/>
              </a:rPr>
              <a:t>20 mèt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140200" y="3387600"/>
            <a:ext cx="759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efa06"/>
                </a:solidFill>
                <a:latin typeface="Century Gothic"/>
              </a:rPr>
              <a:t>8 à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efa06"/>
                </a:solidFill>
                <a:latin typeface="Century Gothic"/>
              </a:rPr>
              <a:t> </a:t>
            </a:r>
            <a:r>
              <a:rPr b="1" lang="en-US" sz="1200" spc="-1" strike="noStrike">
                <a:solidFill>
                  <a:srgbClr val="eefa06"/>
                </a:solidFill>
                <a:latin typeface="Century Gothic"/>
              </a:rPr>
              <a:t>mèt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088320" y="1074600"/>
            <a:ext cx="307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fa06"/>
                </a:solidFill>
                <a:latin typeface="Century Gothic"/>
              </a:rPr>
              <a:t>Stabilisation entre 3 et 6 mètres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015240" y="1801800"/>
            <a:ext cx="292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ET EN PRINCI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C ’EST REUSSI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-47520" y="577800"/>
            <a:ext cx="1889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ahoma"/>
              </a:rPr>
              <a:t>Réaliser u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ahoma"/>
              </a:rPr>
              <a:t>Remonté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ahoma"/>
              </a:rPr>
              <a:t>Contrôlé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ahoma"/>
              </a:rPr>
              <a:t>avec arrêt ent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ahoma"/>
              </a:rPr>
              <a:t>6 et 3 mèt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75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75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0T19:39:05Z</dcterms:created>
  <dc:creator>Talon Joël</dc:creator>
  <dc:description/>
  <dc:language>en-US</dc:language>
  <cp:lastModifiedBy>TALON</cp:lastModifiedBy>
  <dcterms:modified xsi:type="dcterms:W3CDTF">2003-10-17T09:08:14Z</dcterms:modified>
  <cp:revision>20</cp:revision>
  <dc:subject/>
  <dc:title>Pédagogie de l'apprentissage de la STAB</dc:title>
</cp:coreProperties>
</file>