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APPLAUD.WAV" ContentType="audio/x-wav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672-6D01-476D-9EC3-44F1D876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42B-B3F9-442A-B798-95FB3D7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6CC-C9DA-4E4C-8B69-F18DFBF7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C67-29D9-4AF6-AE44-1B1AF1BE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73C-5569-4D06-A656-9E17E48D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2EC-F177-4A6B-8DCC-20B94AD9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1F8-1982-4A0C-9ED9-D068044E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61C-6752-4947-83E3-DC89902C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288-48EF-41E3-A70A-A4538C23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424-F7F1-4EC5-9F8B-1A86CA6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58E-6555-4E6E-B2C8-5654740E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A13-C0C0-49BF-A261-B55A16A0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D180-F4E5-4282-B529-6C527C30F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APPLAUD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APPLAU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PPLAU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d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260280" y="0"/>
          <a:ext cx="940428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0280" y="0"/>
                    <a:ext cx="9404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398520" y="5849280"/>
            <a:ext cx="1757880" cy="803160"/>
            <a:chOff x="398520" y="5849280"/>
            <a:chExt cx="1757880" cy="803160"/>
          </a:xfrm>
        </p:grpSpPr>
        <p:sp>
          <p:nvSpPr>
            <p:cNvPr id="44" name=""/>
            <p:cNvSpPr/>
            <p:nvPr/>
          </p:nvSpPr>
          <p:spPr>
            <a:xfrm rot="20392200">
              <a:off x="1300320" y="6027840"/>
              <a:ext cx="638280" cy="302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0392200">
              <a:off x="1902960" y="5907960"/>
              <a:ext cx="219240" cy="236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018080" y="6310800"/>
              <a:ext cx="312840" cy="21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684000" y="6528240"/>
              <a:ext cx="333720" cy="3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960120" y="6268680"/>
              <a:ext cx="352080" cy="14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55920" y="6410160"/>
              <a:ext cx="30744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38120" y="6561360"/>
              <a:ext cx="243360" cy="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10040" y="6436080"/>
              <a:ext cx="25236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428040" y="6544440"/>
              <a:ext cx="25920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398520" y="6394320"/>
              <a:ext cx="266040" cy="3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0392200">
              <a:off x="1352160" y="5918760"/>
              <a:ext cx="424440" cy="10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9680" y="6397200"/>
              <a:ext cx="1044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3440" y="6540120"/>
              <a:ext cx="12600" cy="11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73200" y="4461120"/>
            <a:ext cx="357480" cy="1665000"/>
            <a:chOff x="2473200" y="4461120"/>
            <a:chExt cx="357480" cy="1665000"/>
          </a:xfrm>
        </p:grpSpPr>
        <p:sp>
          <p:nvSpPr>
            <p:cNvPr id="58" name=""/>
            <p:cNvSpPr/>
            <p:nvPr/>
          </p:nvSpPr>
          <p:spPr>
            <a:xfrm rot="16200000">
              <a:off x="2406600" y="4822560"/>
              <a:ext cx="589320" cy="258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2592720" y="4460760"/>
              <a:ext cx="202320" cy="202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21600" y="5244120"/>
              <a:ext cx="82800" cy="3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731320" y="5585040"/>
              <a:ext cx="7344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84880" y="5247360"/>
              <a:ext cx="936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623320" y="5594040"/>
              <a:ext cx="7056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32040" y="5887080"/>
              <a:ext cx="0" cy="23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598120" y="5864040"/>
              <a:ext cx="28800" cy="2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640600" y="5879520"/>
              <a:ext cx="8928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510640" y="5858640"/>
              <a:ext cx="109800" cy="2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2324160" y="4887360"/>
              <a:ext cx="392040" cy="9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20000" y="6070320"/>
              <a:ext cx="8820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41680" y="6095520"/>
              <a:ext cx="9396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527200" y="2662560"/>
            <a:ext cx="356760" cy="1665000"/>
            <a:chOff x="2527200" y="2662560"/>
            <a:chExt cx="356760" cy="1665000"/>
          </a:xfrm>
        </p:grpSpPr>
        <p:sp>
          <p:nvSpPr>
            <p:cNvPr id="72" name=""/>
            <p:cNvSpPr/>
            <p:nvPr/>
          </p:nvSpPr>
          <p:spPr>
            <a:xfrm rot="16200000">
              <a:off x="2459880" y="3024000"/>
              <a:ext cx="589320" cy="258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646720" y="2662560"/>
              <a:ext cx="202320" cy="202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5600" y="3445560"/>
              <a:ext cx="82800" cy="3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784960" y="3786480"/>
              <a:ext cx="7344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8880" y="3448800"/>
              <a:ext cx="936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677320" y="3795480"/>
              <a:ext cx="7056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85680" y="4088520"/>
              <a:ext cx="0" cy="23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652120" y="4065480"/>
              <a:ext cx="28800" cy="2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694600" y="4080960"/>
              <a:ext cx="8928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564640" y="4060080"/>
              <a:ext cx="109800" cy="2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2378160" y="3088800"/>
              <a:ext cx="392040" cy="9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4000" y="4271760"/>
              <a:ext cx="8820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95680" y="4296960"/>
              <a:ext cx="9396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46280" y="740160"/>
            <a:ext cx="356760" cy="1665000"/>
            <a:chOff x="2546280" y="740160"/>
            <a:chExt cx="356760" cy="1665000"/>
          </a:xfrm>
        </p:grpSpPr>
        <p:sp>
          <p:nvSpPr>
            <p:cNvPr id="86" name=""/>
            <p:cNvSpPr/>
            <p:nvPr/>
          </p:nvSpPr>
          <p:spPr>
            <a:xfrm rot="16200000">
              <a:off x="2478960" y="1101600"/>
              <a:ext cx="589320" cy="258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2665800" y="740160"/>
              <a:ext cx="202320" cy="202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94680" y="1523160"/>
              <a:ext cx="82800" cy="3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04040" y="1864080"/>
              <a:ext cx="7344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57960" y="1526400"/>
              <a:ext cx="936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696400" y="1873080"/>
              <a:ext cx="7056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04760" y="2166120"/>
              <a:ext cx="0" cy="23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671200" y="2143080"/>
              <a:ext cx="28800" cy="2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713680" y="2158560"/>
              <a:ext cx="8928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583720" y="2137680"/>
              <a:ext cx="109800" cy="2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2397240" y="1166400"/>
              <a:ext cx="392040" cy="9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3080" y="2349360"/>
              <a:ext cx="8820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14760" y="2374560"/>
              <a:ext cx="9396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95560" y="5676840"/>
            <a:ext cx="171360" cy="171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0600" y="5915160"/>
            <a:ext cx="17172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94120" y="4667400"/>
            <a:ext cx="190440" cy="183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7800" y="4886280"/>
            <a:ext cx="345960" cy="34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43360" y="2809800"/>
            <a:ext cx="342720" cy="33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98800" y="318924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33640" y="790560"/>
            <a:ext cx="419040" cy="419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86280" y="1266840"/>
            <a:ext cx="10476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78160" y="495360"/>
            <a:ext cx="286920" cy="429840"/>
            <a:chOff x="2378160" y="495360"/>
            <a:chExt cx="286920" cy="429840"/>
          </a:xfrm>
        </p:grpSpPr>
        <p:sp>
          <p:nvSpPr>
            <p:cNvPr id="108" name=""/>
            <p:cNvSpPr/>
            <p:nvPr/>
          </p:nvSpPr>
          <p:spPr>
            <a:xfrm>
              <a:off x="2448360" y="8499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88680" y="889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3800" y="848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5280" y="810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07760" y="771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5640" y="798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4800" y="756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9880" y="737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38360" y="722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84080" y="756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98040" y="689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47720" y="657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84080" y="682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8960" y="648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5960" y="672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9040" y="605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40800" y="5486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880" y="598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38360" y="6116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6200" y="603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0760" y="565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29800" y="512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6200" y="5238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58080" y="495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8160" y="495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581280" y="102240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0160" y="94284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44000" y="73008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idage de la S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10360" y="1411200"/>
            <a:ext cx="0" cy="451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457440" y="594360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8600" y="54756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Gothic"/>
              </a:rPr>
              <a:t>10à12 mè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70120" y="603576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Gothic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Century Gothic"/>
              </a:rPr>
              <a:t>mè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69080" y="497988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fa06"/>
                </a:solidFill>
                <a:latin typeface="Century Gothic"/>
              </a:rPr>
              <a:t>ET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fa06"/>
                </a:solidFill>
                <a:latin typeface="Century Gothic"/>
              </a:rPr>
              <a:t>RECOMM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400" y="612720"/>
            <a:ext cx="150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Prendre con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De la vitesse et contrôler l’asc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d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-260280" y="0"/>
          <a:ext cx="940428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0280" y="0"/>
                    <a:ext cx="9404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855720" y="5496120"/>
            <a:ext cx="892080" cy="928080"/>
            <a:chOff x="855720" y="5496120"/>
            <a:chExt cx="892080" cy="928080"/>
          </a:xfrm>
        </p:grpSpPr>
        <p:sp>
          <p:nvSpPr>
            <p:cNvPr id="145" name=""/>
            <p:cNvSpPr/>
            <p:nvPr/>
          </p:nvSpPr>
          <p:spPr>
            <a:xfrm rot="18691200">
              <a:off x="1268640" y="571104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8691200">
              <a:off x="1578240" y="5524920"/>
              <a:ext cx="14040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235520" y="5962320"/>
              <a:ext cx="113400" cy="21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060200" y="6176520"/>
              <a:ext cx="175320" cy="12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172520" y="5946840"/>
              <a:ext cx="156240" cy="18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011600" y="6130800"/>
              <a:ext cx="16272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949680" y="6300360"/>
              <a:ext cx="10980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91720" y="6240240"/>
              <a:ext cx="12384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913320" y="6295680"/>
              <a:ext cx="148320" cy="7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55720" y="6234120"/>
              <a:ext cx="158760" cy="6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8691200">
              <a:off x="1251360" y="567576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4720" y="6298200"/>
              <a:ext cx="34920" cy="5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6560" y="6367320"/>
              <a:ext cx="37440" cy="5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85960" y="4373640"/>
            <a:ext cx="247320" cy="1154160"/>
            <a:chOff x="1785960" y="4373640"/>
            <a:chExt cx="247320" cy="1154160"/>
          </a:xfrm>
        </p:grpSpPr>
        <p:sp>
          <p:nvSpPr>
            <p:cNvPr id="159" name=""/>
            <p:cNvSpPr/>
            <p:nvPr/>
          </p:nvSpPr>
          <p:spPr>
            <a:xfrm rot="16200000">
              <a:off x="1739520" y="462456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1868760" y="4373640"/>
              <a:ext cx="14040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58040" y="491724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64520" y="515268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2840" y="491904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890000" y="515916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5240" y="536220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872720" y="534636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901880" y="535716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811880" y="534240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682640" y="466920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18360" y="5489640"/>
              <a:ext cx="612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2600" y="5506920"/>
              <a:ext cx="6516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101680" y="3281400"/>
            <a:ext cx="247320" cy="1154160"/>
            <a:chOff x="2101680" y="3281400"/>
            <a:chExt cx="247320" cy="1154160"/>
          </a:xfrm>
        </p:grpSpPr>
        <p:sp>
          <p:nvSpPr>
            <p:cNvPr id="173" name=""/>
            <p:cNvSpPr/>
            <p:nvPr/>
          </p:nvSpPr>
          <p:spPr>
            <a:xfrm rot="16200000">
              <a:off x="2055240" y="353232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2184480" y="3281400"/>
              <a:ext cx="14040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3760" y="382500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80240" y="406044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48560" y="382680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205720" y="406692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0960" y="426996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188440" y="425412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217600" y="426492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127600" y="425016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1998360" y="357696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4080" y="4397400"/>
              <a:ext cx="612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18320" y="4414680"/>
              <a:ext cx="6516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60800" y="2998800"/>
            <a:ext cx="247320" cy="1154160"/>
            <a:chOff x="3160800" y="2998800"/>
            <a:chExt cx="247320" cy="1154160"/>
          </a:xfrm>
        </p:grpSpPr>
        <p:sp>
          <p:nvSpPr>
            <p:cNvPr id="187" name=""/>
            <p:cNvSpPr/>
            <p:nvPr/>
          </p:nvSpPr>
          <p:spPr>
            <a:xfrm rot="16200000">
              <a:off x="3114360" y="324972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3243600" y="2998800"/>
              <a:ext cx="14040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2880" y="354240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339360" y="377784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07680" y="354420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264840" y="378432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40080" y="398736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247560" y="397152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276720" y="398232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186720" y="396756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3057480" y="329436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93200" y="4114800"/>
              <a:ext cx="612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4132080"/>
              <a:ext cx="6516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637080" y="1889280"/>
            <a:ext cx="247320" cy="1153440"/>
            <a:chOff x="3637080" y="1889280"/>
            <a:chExt cx="247320" cy="1153440"/>
          </a:xfrm>
        </p:grpSpPr>
        <p:sp>
          <p:nvSpPr>
            <p:cNvPr id="201" name=""/>
            <p:cNvSpPr/>
            <p:nvPr/>
          </p:nvSpPr>
          <p:spPr>
            <a:xfrm rot="16200000">
              <a:off x="3590640" y="213948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3719880" y="1888920"/>
              <a:ext cx="14004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160" y="243216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815640" y="266760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3960" y="243396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741120" y="267408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6360" y="287712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723840" y="286128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753000" y="287208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663000" y="285732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3533760" y="218448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69480" y="3004560"/>
              <a:ext cx="612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53720" y="3021840"/>
              <a:ext cx="6516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043520" y="741240"/>
            <a:ext cx="246960" cy="1154160"/>
            <a:chOff x="4043520" y="741240"/>
            <a:chExt cx="246960" cy="1154160"/>
          </a:xfrm>
        </p:grpSpPr>
        <p:sp>
          <p:nvSpPr>
            <p:cNvPr id="215" name=""/>
            <p:cNvSpPr/>
            <p:nvPr/>
          </p:nvSpPr>
          <p:spPr>
            <a:xfrm rot="16200000">
              <a:off x="3996720" y="992160"/>
              <a:ext cx="408240" cy="178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4125960" y="741240"/>
              <a:ext cx="140400" cy="140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5600" y="128484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221720" y="152028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90040" y="128664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147200" y="152676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22440" y="172980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129920" y="171396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159080" y="172476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069440" y="171000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3939840" y="1036800"/>
              <a:ext cx="271800" cy="6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5920" y="1857240"/>
              <a:ext cx="6084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60160" y="1874520"/>
              <a:ext cx="648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268240" y="765720"/>
            <a:ext cx="1105560" cy="556200"/>
            <a:chOff x="5268240" y="765720"/>
            <a:chExt cx="1105560" cy="556200"/>
          </a:xfrm>
        </p:grpSpPr>
        <p:sp>
          <p:nvSpPr>
            <p:cNvPr id="229" name=""/>
            <p:cNvSpPr/>
            <p:nvPr/>
          </p:nvSpPr>
          <p:spPr>
            <a:xfrm rot="20166600">
              <a:off x="5832000" y="88200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166600">
              <a:off x="6211080" y="788040"/>
              <a:ext cx="14004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664240" y="1067040"/>
              <a:ext cx="192240" cy="14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54360" y="1215000"/>
              <a:ext cx="210240" cy="3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625000" y="1044720"/>
              <a:ext cx="219960" cy="10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33840" y="1147680"/>
              <a:ext cx="193680" cy="3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301360" y="1253880"/>
              <a:ext cx="151200" cy="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279400" y="1181160"/>
              <a:ext cx="1584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290920" y="1250640"/>
              <a:ext cx="16596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5268240" y="1167840"/>
              <a:ext cx="17100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166600">
              <a:off x="5860800" y="81972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76520" y="1171440"/>
              <a:ext cx="9360" cy="6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4880" y="1255320"/>
              <a:ext cx="11160" cy="6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708200" y="5708520"/>
            <a:ext cx="74520" cy="74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28640" y="5842080"/>
            <a:ext cx="230400" cy="22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4920" y="471816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52680" y="3629160"/>
            <a:ext cx="77760" cy="81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89080" y="454032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74920" y="3343320"/>
            <a:ext cx="228600" cy="233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71840" y="3328920"/>
            <a:ext cx="263520" cy="274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27280" y="3162240"/>
            <a:ext cx="119160" cy="119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1640" y="1962000"/>
            <a:ext cx="214560" cy="204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217600"/>
            <a:ext cx="191880" cy="200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6640" y="863640"/>
            <a:ext cx="15228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7800" y="1055520"/>
            <a:ext cx="153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27800" y="752400"/>
            <a:ext cx="74520" cy="74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86400" y="888840"/>
            <a:ext cx="15408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13560" y="530280"/>
            <a:ext cx="25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ff13"/>
                </a:solidFill>
                <a:latin typeface="Century Gothic"/>
              </a:rPr>
              <a:t>EQUILIBRE SUR VENTILATION NORMALE DANS LA ZONE DE 8 A 12 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984320" y="3017880"/>
            <a:ext cx="286920" cy="429840"/>
            <a:chOff x="1984320" y="3017880"/>
            <a:chExt cx="286920" cy="429840"/>
          </a:xfrm>
        </p:grpSpPr>
        <p:sp>
          <p:nvSpPr>
            <p:cNvPr id="258" name=""/>
            <p:cNvSpPr/>
            <p:nvPr/>
          </p:nvSpPr>
          <p:spPr>
            <a:xfrm>
              <a:off x="2054520" y="3372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94840" y="34124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9960" y="33706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61440" y="33325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13920" y="3294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71800" y="3321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10960" y="3278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66040" y="32598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44520" y="32446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90240" y="3278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04200" y="3212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53880" y="3179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90240" y="3204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85120" y="31705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22120" y="3195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05200" y="31284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46960" y="3071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93040" y="3120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44520" y="3134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32360" y="31262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76920" y="30884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35960" y="30348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42360" y="3046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64240" y="3017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4320" y="3017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97360" y="484200"/>
            <a:ext cx="286920" cy="429840"/>
            <a:chOff x="3897360" y="484200"/>
            <a:chExt cx="286920" cy="429840"/>
          </a:xfrm>
        </p:grpSpPr>
        <p:sp>
          <p:nvSpPr>
            <p:cNvPr id="284" name=""/>
            <p:cNvSpPr/>
            <p:nvPr/>
          </p:nvSpPr>
          <p:spPr>
            <a:xfrm>
              <a:off x="3967560" y="8388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07880" y="878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23000" y="837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4480" y="798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26960" y="760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84840" y="787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24000" y="745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9080" y="7261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57560" y="711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03280" y="745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17240" y="6786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6920" y="646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03280" y="671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8160" y="636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35160" y="661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18240" y="594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0000" y="537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06080" y="587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57560" y="600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45400" y="592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89960" y="554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49000" y="5011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5400" y="5126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77280" y="484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97360" y="484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031080" y="412920"/>
            <a:ext cx="286920" cy="429840"/>
            <a:chOff x="6031080" y="412920"/>
            <a:chExt cx="286920" cy="429840"/>
          </a:xfrm>
        </p:grpSpPr>
        <p:sp>
          <p:nvSpPr>
            <p:cNvPr id="310" name=""/>
            <p:cNvSpPr/>
            <p:nvPr/>
          </p:nvSpPr>
          <p:spPr>
            <a:xfrm>
              <a:off x="6101280" y="7675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41600" y="807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56720" y="765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08200" y="727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60680" y="689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18560" y="716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57720" y="673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12800" y="654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91280" y="639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37000" y="673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50960" y="607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0640" y="574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37000" y="599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31880" y="565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68880" y="590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51960" y="5234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720" y="466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39800" y="515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91280" y="529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79120" y="521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3680" y="483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2720" y="429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89120" y="441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1000" y="412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31080" y="412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554360" y="80964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Century Gothic"/>
              </a:rPr>
              <a:t>8 à 12 mè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12000" y="625968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Century Gothic"/>
              </a:rPr>
              <a:t>20 mè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51560" y="14479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314520" y="6172200"/>
            <a:ext cx="2857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40080" y="4824360"/>
            <a:ext cx="270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fa06"/>
                </a:solidFill>
                <a:latin typeface="Century Gothic"/>
              </a:rPr>
              <a:t>E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fa06"/>
                </a:solidFill>
                <a:latin typeface="Century Gothic"/>
              </a:rPr>
              <a:t>RECOMM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0760" y="527040"/>
            <a:ext cx="181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Remonter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Contrôl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sa 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et se stabili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entre 8 et 1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d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-158760" y="0"/>
          <a:ext cx="94932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760" y="0"/>
                    <a:ext cx="94932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5268240" y="765720"/>
            <a:ext cx="1105560" cy="556200"/>
            <a:chOff x="5268240" y="765720"/>
            <a:chExt cx="1105560" cy="556200"/>
          </a:xfrm>
        </p:grpSpPr>
        <p:sp>
          <p:nvSpPr>
            <p:cNvPr id="344" name=""/>
            <p:cNvSpPr/>
            <p:nvPr/>
          </p:nvSpPr>
          <p:spPr>
            <a:xfrm rot="20166600">
              <a:off x="5832000" y="88200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166600">
              <a:off x="6211080" y="788040"/>
              <a:ext cx="14004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664240" y="1067040"/>
              <a:ext cx="192240" cy="14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454360" y="1215000"/>
              <a:ext cx="210240" cy="3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625000" y="1044720"/>
              <a:ext cx="219960" cy="10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433840" y="1147680"/>
              <a:ext cx="193680" cy="3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301360" y="1253880"/>
              <a:ext cx="151200" cy="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279400" y="1181160"/>
              <a:ext cx="1584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290920" y="1250640"/>
              <a:ext cx="16596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268240" y="1167840"/>
              <a:ext cx="17100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166600">
              <a:off x="5860800" y="81972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76520" y="1171440"/>
              <a:ext cx="9360" cy="6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94880" y="1255320"/>
              <a:ext cx="11160" cy="6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427800" y="752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86400" y="888840"/>
            <a:ext cx="15408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66040" y="590400"/>
            <a:ext cx="102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TAB 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53720" y="86184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VENTILATION NOR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031080" y="412920"/>
            <a:ext cx="286920" cy="429840"/>
            <a:chOff x="6031080" y="412920"/>
            <a:chExt cx="286920" cy="429840"/>
          </a:xfrm>
        </p:grpSpPr>
        <p:sp>
          <p:nvSpPr>
            <p:cNvPr id="362" name=""/>
            <p:cNvSpPr/>
            <p:nvPr/>
          </p:nvSpPr>
          <p:spPr>
            <a:xfrm>
              <a:off x="6101280" y="7675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41600" y="807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56720" y="765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08200" y="727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0680" y="689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18560" y="716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57720" y="673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12800" y="654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91280" y="639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37000" y="673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0960" y="607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00640" y="574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37000" y="599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31880" y="565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68880" y="590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51960" y="5234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93720" y="466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39800" y="515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91280" y="529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79120" y="521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23680" y="483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82720" y="429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89120" y="441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11000" y="412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31080" y="412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096800" y="1390680"/>
            <a:ext cx="106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En dessou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la z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de palier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3 à 6 mètres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98920" y="5646240"/>
            <a:ext cx="769320" cy="801000"/>
            <a:chOff x="898920" y="5646240"/>
            <a:chExt cx="769320" cy="801000"/>
          </a:xfrm>
        </p:grpSpPr>
        <p:sp>
          <p:nvSpPr>
            <p:cNvPr id="389" name=""/>
            <p:cNvSpPr/>
            <p:nvPr/>
          </p:nvSpPr>
          <p:spPr>
            <a:xfrm rot="18691200">
              <a:off x="1254960" y="5831640"/>
              <a:ext cx="352080" cy="155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8691200">
              <a:off x="1522080" y="5671080"/>
              <a:ext cx="120960" cy="12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226880" y="6048720"/>
              <a:ext cx="97560" cy="18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075320" y="6233760"/>
              <a:ext cx="15120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172160" y="6035040"/>
              <a:ext cx="13500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033200" y="6194160"/>
              <a:ext cx="140400" cy="9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979920" y="6340320"/>
              <a:ext cx="94680" cy="1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929160" y="6288120"/>
              <a:ext cx="10692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948600" y="6336000"/>
              <a:ext cx="127800" cy="6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898920" y="6282720"/>
              <a:ext cx="13716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691200">
              <a:off x="1239480" y="5801040"/>
              <a:ext cx="234360" cy="56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6840" y="6338160"/>
              <a:ext cx="29880" cy="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51120" y="6397560"/>
              <a:ext cx="324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701720" y="4677840"/>
            <a:ext cx="212760" cy="995760"/>
            <a:chOff x="1701720" y="4677840"/>
            <a:chExt cx="212760" cy="995760"/>
          </a:xfrm>
        </p:grpSpPr>
        <p:sp>
          <p:nvSpPr>
            <p:cNvPr id="403" name=""/>
            <p:cNvSpPr/>
            <p:nvPr/>
          </p:nvSpPr>
          <p:spPr>
            <a:xfrm rot="16200000">
              <a:off x="1661400" y="4894560"/>
              <a:ext cx="352080" cy="154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6200000">
              <a:off x="1772640" y="4677840"/>
              <a:ext cx="120960" cy="120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9680" y="5146560"/>
              <a:ext cx="4932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855080" y="5349960"/>
              <a:ext cx="435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27720" y="5148000"/>
              <a:ext cx="54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90640" y="5355720"/>
              <a:ext cx="4212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55800" y="553068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776240" y="551700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1801080" y="552600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723680" y="551304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6200000">
              <a:off x="1612440" y="4933080"/>
              <a:ext cx="234360" cy="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9440" y="5640120"/>
              <a:ext cx="525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02160" y="5655240"/>
              <a:ext cx="5580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73160" y="3735000"/>
            <a:ext cx="214560" cy="995760"/>
            <a:chOff x="1973160" y="3735000"/>
            <a:chExt cx="214560" cy="995760"/>
          </a:xfrm>
        </p:grpSpPr>
        <p:sp>
          <p:nvSpPr>
            <p:cNvPr id="417" name=""/>
            <p:cNvSpPr/>
            <p:nvPr/>
          </p:nvSpPr>
          <p:spPr>
            <a:xfrm rot="16200000">
              <a:off x="1933920" y="3951000"/>
              <a:ext cx="352080" cy="155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2045160" y="3734640"/>
              <a:ext cx="120960" cy="121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2200" y="4203720"/>
              <a:ext cx="4968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127960" y="4407120"/>
              <a:ext cx="4392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00240" y="4205160"/>
              <a:ext cx="576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63160" y="4412880"/>
              <a:ext cx="4248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28680" y="45878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2048400" y="457416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073600" y="458316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995480" y="457020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883880" y="3989880"/>
              <a:ext cx="234360" cy="56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1240" y="4697280"/>
              <a:ext cx="5292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74320" y="4712400"/>
              <a:ext cx="561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87560" y="3492000"/>
            <a:ext cx="212760" cy="995760"/>
            <a:chOff x="2887560" y="3492000"/>
            <a:chExt cx="212760" cy="995760"/>
          </a:xfrm>
        </p:grpSpPr>
        <p:sp>
          <p:nvSpPr>
            <p:cNvPr id="431" name=""/>
            <p:cNvSpPr/>
            <p:nvPr/>
          </p:nvSpPr>
          <p:spPr>
            <a:xfrm rot="16200000">
              <a:off x="2847240" y="3708720"/>
              <a:ext cx="352080" cy="154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2958480" y="3492000"/>
              <a:ext cx="120960" cy="120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520" y="3960720"/>
              <a:ext cx="4932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040920" y="4164120"/>
              <a:ext cx="435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13560" y="3962160"/>
              <a:ext cx="54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976480" y="4169880"/>
              <a:ext cx="4212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41640" y="43448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962080" y="433116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986920" y="434016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909520" y="432720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2798280" y="3747240"/>
              <a:ext cx="234360" cy="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15280" y="4454280"/>
              <a:ext cx="525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88000" y="4469400"/>
              <a:ext cx="5580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298680" y="2534760"/>
            <a:ext cx="212760" cy="995760"/>
            <a:chOff x="3298680" y="2534760"/>
            <a:chExt cx="212760" cy="995760"/>
          </a:xfrm>
        </p:grpSpPr>
        <p:sp>
          <p:nvSpPr>
            <p:cNvPr id="445" name=""/>
            <p:cNvSpPr/>
            <p:nvPr/>
          </p:nvSpPr>
          <p:spPr>
            <a:xfrm rot="16200000">
              <a:off x="3258360" y="2751480"/>
              <a:ext cx="352080" cy="154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3369600" y="25347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46640" y="3003480"/>
              <a:ext cx="4932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452040" y="3206880"/>
              <a:ext cx="435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4680" y="3004920"/>
              <a:ext cx="54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3387600" y="3212640"/>
              <a:ext cx="4212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52760" y="338760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3373200" y="337392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398040" y="338292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320640" y="336996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3209400" y="2790000"/>
              <a:ext cx="234360" cy="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26400" y="3497040"/>
              <a:ext cx="525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9120" y="3512160"/>
              <a:ext cx="5580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648240" y="1544400"/>
            <a:ext cx="214200" cy="995760"/>
            <a:chOff x="3648240" y="1544400"/>
            <a:chExt cx="214200" cy="995760"/>
          </a:xfrm>
        </p:grpSpPr>
        <p:sp>
          <p:nvSpPr>
            <p:cNvPr id="459" name=""/>
            <p:cNvSpPr/>
            <p:nvPr/>
          </p:nvSpPr>
          <p:spPr>
            <a:xfrm rot="16200000">
              <a:off x="3608640" y="1760400"/>
              <a:ext cx="352080" cy="155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6200000">
              <a:off x="3719880" y="1544040"/>
              <a:ext cx="120960" cy="12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97280" y="2013120"/>
              <a:ext cx="4968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802680" y="2216520"/>
              <a:ext cx="4392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74960" y="2014560"/>
              <a:ext cx="576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738240" y="2222280"/>
              <a:ext cx="4248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03400" y="23972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723120" y="238356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48680" y="239256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670560" y="237960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3558960" y="1799280"/>
              <a:ext cx="234360" cy="56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76320" y="2506680"/>
              <a:ext cx="5292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49040" y="2521800"/>
              <a:ext cx="561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633680" y="5829480"/>
            <a:ext cx="64800" cy="64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65280" y="5945040"/>
            <a:ext cx="198360" cy="193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6400" y="4975200"/>
            <a:ext cx="10476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6640" y="4035600"/>
            <a:ext cx="6660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62000" y="4821120"/>
            <a:ext cx="133560" cy="133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3789360"/>
            <a:ext cx="196920" cy="201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56120" y="3776760"/>
            <a:ext cx="226800" cy="236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03640" y="3633840"/>
            <a:ext cx="10296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60760" y="2597040"/>
            <a:ext cx="185760" cy="17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78400" y="2817720"/>
            <a:ext cx="16668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09960" y="1649520"/>
            <a:ext cx="131760" cy="126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19680" y="1816200"/>
            <a:ext cx="1332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871640" y="3508200"/>
            <a:ext cx="248760" cy="371520"/>
            <a:chOff x="1871640" y="3508200"/>
            <a:chExt cx="248760" cy="371520"/>
          </a:xfrm>
        </p:grpSpPr>
        <p:sp>
          <p:nvSpPr>
            <p:cNvPr id="485" name=""/>
            <p:cNvSpPr/>
            <p:nvPr/>
          </p:nvSpPr>
          <p:spPr>
            <a:xfrm>
              <a:off x="1932480" y="38145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7400" y="38491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0720" y="38127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25360" y="3779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83960" y="37468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47600" y="37699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94680" y="37335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42560" y="37170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10600" y="3704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50200" y="37335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75680" y="36759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8880" y="36482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50200" y="36694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59120" y="36399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4400" y="3661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89640" y="36036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26000" y="35542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65960" y="35971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0600" y="3608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86560" y="36018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8680" y="3569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89800" y="35229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8800" y="35326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41120" y="3508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71640" y="3508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522600" y="1322280"/>
            <a:ext cx="247680" cy="371520"/>
            <a:chOff x="3522600" y="1322280"/>
            <a:chExt cx="247680" cy="371520"/>
          </a:xfrm>
        </p:grpSpPr>
        <p:sp>
          <p:nvSpPr>
            <p:cNvPr id="511" name=""/>
            <p:cNvSpPr/>
            <p:nvPr/>
          </p:nvSpPr>
          <p:spPr>
            <a:xfrm>
              <a:off x="3583080" y="1628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18000" y="1663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30960" y="16268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75600" y="15937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34200" y="15609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8200" y="15840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45280" y="1547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3160" y="15310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60480" y="15181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00080" y="1547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25920" y="1490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68760" y="14623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00080" y="14835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09720" y="1454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55360" y="14752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40600" y="14176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76600" y="13683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16200" y="1411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480" y="14227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36440" y="14158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8560" y="13831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39680" y="1337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59040" y="13467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91720" y="13222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22600" y="13222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191600" y="635796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fa06"/>
                </a:solidFill>
                <a:latin typeface="Century Gothic"/>
              </a:rPr>
              <a:t>20 mè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40200" y="3387600"/>
            <a:ext cx="75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fa06"/>
                </a:solidFill>
                <a:latin typeface="Century Gothic"/>
              </a:rPr>
              <a:t>8 à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fa06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eefa06"/>
                </a:solidFill>
                <a:latin typeface="Century Gothic"/>
              </a:rPr>
              <a:t>mè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88320" y="1074600"/>
            <a:ext cx="30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fa06"/>
                </a:solidFill>
                <a:latin typeface="Century Gothic"/>
              </a:rPr>
              <a:t>Stabilisation entre 3 et 6 mètres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5240" y="1801800"/>
            <a:ext cx="29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ET EN PRINC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 ’EST REUSSI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-47520" y="577800"/>
            <a:ext cx="188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Réaliser u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Remonté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Contrôl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avec arrêt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6 et 3 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75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9:39:05Z</dcterms:created>
  <dc:creator>Talon Joël</dc:creator>
  <dc:description/>
  <dc:language>en-US</dc:language>
  <cp:lastModifiedBy>TALON</cp:lastModifiedBy>
  <dcterms:modified xsi:type="dcterms:W3CDTF">2003-10-17T09:08:14Z</dcterms:modified>
  <cp:revision>20</cp:revision>
  <dc:subject/>
  <dc:title>Pédagogie de l'apprentissage de la STAB</dc:title>
</cp:coreProperties>
</file>