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C1D-721C-4BBF-BE56-5B43FCEE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305-B35C-4E37-ADEF-C838AC8E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C31-4BDD-42E2-B4D6-63BF6C65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C02-F7C0-4D26-BB2A-02ACA56B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B97-1D54-4E16-9A6F-CFDEAA40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96F-84B2-492F-BBE4-239C791E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BD1-664E-4344-A42E-EF6D7B96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9EF-EB69-40A5-9321-1CD1025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9E8-709B-414A-8527-F72ABE0B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602-CFC6-489F-A5C6-B6D0C053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D4C-A51D-4B07-9DC1-8006352B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24F-9E15-4AE4-B114-9D7CA08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F924-D30C-49DA-858F-2D145B1CD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929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56040" y="814320"/>
            <a:ext cx="717840" cy="105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3733920"/>
            <a:ext cx="1073160" cy="10555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114720"/>
            <a:ext cx="547560" cy="54756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92120" y="2696040"/>
            <a:ext cx="2934000" cy="2943720"/>
            <a:chOff x="492120" y="2696040"/>
            <a:chExt cx="2934000" cy="2943720"/>
          </a:xfrm>
        </p:grpSpPr>
        <p:sp>
          <p:nvSpPr>
            <p:cNvPr id="45" name=""/>
            <p:cNvSpPr/>
            <p:nvPr/>
          </p:nvSpPr>
          <p:spPr>
            <a:xfrm rot="18769200">
              <a:off x="1861200" y="3372840"/>
              <a:ext cx="1321560" cy="589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769200">
              <a:off x="2877480" y="2792880"/>
              <a:ext cx="459000" cy="444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39160" y="4176360"/>
              <a:ext cx="380520" cy="68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53080" y="4861440"/>
              <a:ext cx="585360" cy="37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520280" y="4128120"/>
              <a:ext cx="52668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994680" y="4706640"/>
              <a:ext cx="535320" cy="34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83720" y="5250240"/>
              <a:ext cx="359640" cy="38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11640" y="5051520"/>
              <a:ext cx="403200" cy="35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74280" y="5227920"/>
              <a:ext cx="4896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92120" y="5031360"/>
              <a:ext cx="521640" cy="20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8769200">
              <a:off x="1810440" y="3255120"/>
              <a:ext cx="891000" cy="21492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3" y="0"/>
                  </a:moveTo>
                  <a:cubicBezTo>
                    <a:pt x="2" y="0"/>
                    <a:pt x="0" y="1"/>
                    <a:pt x="0" y="2"/>
                  </a:cubicBezTo>
                  <a:lnTo>
                    <a:pt x="0" y="12"/>
                  </a:lnTo>
                  <a:cubicBezTo>
                    <a:pt x="0" y="14"/>
                    <a:pt x="2" y="15"/>
                    <a:pt x="3" y="15"/>
                  </a:cubicBezTo>
                  <a:lnTo>
                    <a:pt x="59" y="15"/>
                  </a:lnTo>
                  <a:cubicBezTo>
                    <a:pt x="61" y="15"/>
                    <a:pt x="62" y="14"/>
                    <a:pt x="62" y="12"/>
                  </a:cubicBezTo>
                  <a:lnTo>
                    <a:pt x="62" y="2"/>
                  </a:lnTo>
                  <a:cubicBezTo>
                    <a:pt x="62" y="1"/>
                    <a:pt x="61" y="0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2360" y="5222880"/>
              <a:ext cx="10944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4000" y="5450400"/>
              <a:ext cx="119160" cy="18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04920" y="228600"/>
          <a:ext cx="8583480" cy="2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858348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11200" y="3619440"/>
            <a:ext cx="513000" cy="50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9120" y="3057480"/>
            <a:ext cx="500040" cy="50004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743200" y="3152880"/>
            <a:ext cx="3194640" cy="2943720"/>
            <a:chOff x="2743200" y="3152880"/>
            <a:chExt cx="3194640" cy="2943720"/>
          </a:xfrm>
        </p:grpSpPr>
        <p:grpSp>
          <p:nvGrpSpPr>
            <p:cNvPr id="63" name=""/>
            <p:cNvGrpSpPr/>
            <p:nvPr/>
          </p:nvGrpSpPr>
          <p:grpSpPr>
            <a:xfrm>
              <a:off x="3003840" y="3152880"/>
              <a:ext cx="2934000" cy="2943720"/>
              <a:chOff x="3003840" y="3152880"/>
              <a:chExt cx="2934000" cy="2943720"/>
            </a:xfrm>
          </p:grpSpPr>
          <p:sp>
            <p:nvSpPr>
              <p:cNvPr id="64" name=""/>
              <p:cNvSpPr/>
              <p:nvPr/>
            </p:nvSpPr>
            <p:spPr>
              <a:xfrm flipH="1" rot="2830800">
                <a:off x="3247200" y="3829680"/>
                <a:ext cx="1321560" cy="58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2830800">
                <a:off x="3093120" y="3250080"/>
                <a:ext cx="459000" cy="444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11000" y="4632840"/>
                <a:ext cx="380520" cy="68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91520" y="5318280"/>
                <a:ext cx="585360" cy="37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83720" y="4585680"/>
                <a:ext cx="526320" cy="58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00320" y="5163480"/>
                <a:ext cx="534960" cy="34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86600" y="5707080"/>
                <a:ext cx="36000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15840" y="5508000"/>
                <a:ext cx="402840" cy="35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66440" y="5684760"/>
                <a:ext cx="489240" cy="23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16560" y="5488200"/>
                <a:ext cx="521280" cy="20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2830800">
                <a:off x="3728160" y="3711960"/>
                <a:ext cx="891000" cy="21456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798520" y="5679720"/>
                <a:ext cx="109440" cy="17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627160" y="5907240"/>
                <a:ext cx="119160" cy="18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806560" y="3581280"/>
              <a:ext cx="762120" cy="304920"/>
            </a:xfrm>
            <a:custGeom>
              <a:avLst/>
              <a:gdLst/>
              <a:ahLst/>
              <a:rect l="l" t="t" r="r" b="b"/>
              <a:pathLst>
                <a:path w="435" h="203">
                  <a:moveTo>
                    <a:pt x="435" y="165"/>
                  </a:moveTo>
                  <a:cubicBezTo>
                    <a:pt x="417" y="173"/>
                    <a:pt x="400" y="181"/>
                    <a:pt x="375" y="187"/>
                  </a:cubicBezTo>
                  <a:cubicBezTo>
                    <a:pt x="350" y="193"/>
                    <a:pt x="315" y="203"/>
                    <a:pt x="285" y="202"/>
                  </a:cubicBezTo>
                  <a:cubicBezTo>
                    <a:pt x="255" y="201"/>
                    <a:pt x="226" y="192"/>
                    <a:pt x="195" y="180"/>
                  </a:cubicBezTo>
                  <a:cubicBezTo>
                    <a:pt x="164" y="168"/>
                    <a:pt x="122" y="146"/>
                    <a:pt x="97" y="127"/>
                  </a:cubicBezTo>
                  <a:cubicBezTo>
                    <a:pt x="72" y="108"/>
                    <a:pt x="61" y="88"/>
                    <a:pt x="45" y="67"/>
                  </a:cubicBezTo>
                  <a:cubicBezTo>
                    <a:pt x="29" y="46"/>
                    <a:pt x="7" y="10"/>
                    <a:pt x="0" y="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3200" y="3819240"/>
              <a:ext cx="749160" cy="298440"/>
            </a:xfrm>
            <a:custGeom>
              <a:avLst/>
              <a:gdLst/>
              <a:ahLst/>
              <a:rect l="l" t="t" r="r" b="b"/>
              <a:pathLst>
                <a:path w="472" h="188">
                  <a:moveTo>
                    <a:pt x="472" y="133"/>
                  </a:moveTo>
                  <a:cubicBezTo>
                    <a:pt x="450" y="145"/>
                    <a:pt x="428" y="156"/>
                    <a:pt x="398" y="165"/>
                  </a:cubicBezTo>
                  <a:cubicBezTo>
                    <a:pt x="367" y="174"/>
                    <a:pt x="324" y="188"/>
                    <a:pt x="287" y="187"/>
                  </a:cubicBezTo>
                  <a:cubicBezTo>
                    <a:pt x="251" y="185"/>
                    <a:pt x="214" y="172"/>
                    <a:pt x="177" y="155"/>
                  </a:cubicBezTo>
                  <a:cubicBezTo>
                    <a:pt x="138" y="137"/>
                    <a:pt x="83" y="102"/>
                    <a:pt x="56" y="78"/>
                  </a:cubicBezTo>
                  <a:cubicBezTo>
                    <a:pt x="29" y="54"/>
                    <a:pt x="22" y="24"/>
                    <a:pt x="13" y="12"/>
                  </a:cubicBezTo>
                  <a:cubicBezTo>
                    <a:pt x="4" y="0"/>
                    <a:pt x="3" y="5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048120" y="2438280"/>
            <a:ext cx="685800" cy="914400"/>
          </a:xfrm>
          <a:custGeom>
            <a:avLst/>
            <a:gdLst/>
            <a:ahLst/>
            <a:rect l="l" t="t" r="r" b="b"/>
            <a:pathLst>
              <a:path w="640" h="508">
                <a:moveTo>
                  <a:pt x="0" y="121"/>
                </a:moveTo>
                <a:lnTo>
                  <a:pt x="157" y="121"/>
                </a:lnTo>
                <a:lnTo>
                  <a:pt x="157" y="508"/>
                </a:lnTo>
                <a:lnTo>
                  <a:pt x="483" y="508"/>
                </a:lnTo>
                <a:lnTo>
                  <a:pt x="483" y="121"/>
                </a:lnTo>
                <a:lnTo>
                  <a:pt x="640" y="121"/>
                </a:lnTo>
                <a:lnTo>
                  <a:pt x="314" y="0"/>
                </a:lnTo>
                <a:lnTo>
                  <a:pt x="0" y="121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52680" y="114264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990720"/>
            <a:ext cx="3962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1219320"/>
            <a:ext cx="0" cy="502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05280" y="60958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entury Gothic"/>
              </a:rPr>
              <a:t>Fond de 20 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533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entury Gothic"/>
              </a:rPr>
              <a:t>15 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4240" y="10666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303"/>
                </a:solidFill>
                <a:latin typeface="Century Gothic"/>
              </a:rPr>
              <a:t>ON PURGE T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92560" y="4699080"/>
            <a:ext cx="307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entury Gothic"/>
              </a:rPr>
              <a:t>ET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entury Gothic"/>
              </a:rPr>
              <a:t>RECOMM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727800">
            <a:off x="1674000" y="3429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303"/>
                </a:solidFill>
                <a:latin typeface="Century Gothic"/>
              </a:rPr>
              <a:t>DET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285600">
            <a:off x="4762080" y="5524200"/>
            <a:ext cx="1219320" cy="228600"/>
          </a:xfrm>
          <a:prstGeom prst="leftRightArrow">
            <a:avLst>
              <a:gd name="adj1" fmla="val 50000"/>
              <a:gd name="adj2" fmla="val 1061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929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18853800">
            <a:off x="2737080" y="5977800"/>
            <a:ext cx="609840" cy="109440"/>
          </a:xfrm>
          <a:custGeom>
            <a:avLst/>
            <a:gdLst>
              <a:gd name="textAreaLeft" fmla="*/ 106560 w 609840"/>
              <a:gd name="textAreaRight" fmla="*/ 442080 w 609840"/>
              <a:gd name="textAreaTop" fmla="*/ 14400 h 109440"/>
              <a:gd name="textAreaBottom" fmla="*/ 95040 h 1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81000" y="228600"/>
          <a:ext cx="9225000" cy="2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1000" y="228600"/>
                    <a:ext cx="9225000" cy="2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1222200" y="5002560"/>
            <a:ext cx="1197360" cy="1201680"/>
            <a:chOff x="1222200" y="5002560"/>
            <a:chExt cx="1197360" cy="1201680"/>
          </a:xfrm>
        </p:grpSpPr>
        <p:sp>
          <p:nvSpPr>
            <p:cNvPr id="93" name=""/>
            <p:cNvSpPr/>
            <p:nvPr/>
          </p:nvSpPr>
          <p:spPr>
            <a:xfrm rot="18769200">
              <a:off x="1780920" y="5278680"/>
              <a:ext cx="539280" cy="240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769200">
              <a:off x="2195640" y="5041800"/>
              <a:ext cx="187200" cy="18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730520" y="5607000"/>
              <a:ext cx="15552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491480" y="5886000"/>
              <a:ext cx="239040" cy="15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641600" y="5587560"/>
              <a:ext cx="214920" cy="24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426680" y="5823720"/>
              <a:ext cx="218520" cy="1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341000" y="6045480"/>
              <a:ext cx="14688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70800" y="5964120"/>
              <a:ext cx="164160" cy="1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296360" y="6036480"/>
              <a:ext cx="199800" cy="9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222200" y="5955840"/>
              <a:ext cx="213120" cy="8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769200">
              <a:off x="1760040" y="5230800"/>
              <a:ext cx="363600" cy="878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3" y="0"/>
                  </a:moveTo>
                  <a:cubicBezTo>
                    <a:pt x="2" y="0"/>
                    <a:pt x="0" y="1"/>
                    <a:pt x="0" y="2"/>
                  </a:cubicBezTo>
                  <a:lnTo>
                    <a:pt x="0" y="12"/>
                  </a:lnTo>
                  <a:cubicBezTo>
                    <a:pt x="0" y="14"/>
                    <a:pt x="2" y="15"/>
                    <a:pt x="3" y="15"/>
                  </a:cubicBezTo>
                  <a:lnTo>
                    <a:pt x="59" y="15"/>
                  </a:lnTo>
                  <a:cubicBezTo>
                    <a:pt x="61" y="15"/>
                    <a:pt x="62" y="14"/>
                    <a:pt x="62" y="12"/>
                  </a:cubicBezTo>
                  <a:lnTo>
                    <a:pt x="62" y="2"/>
                  </a:lnTo>
                  <a:cubicBezTo>
                    <a:pt x="62" y="1"/>
                    <a:pt x="61" y="0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4080" y="6033960"/>
              <a:ext cx="4500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00320" y="6126840"/>
              <a:ext cx="4860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93840" y="5214600"/>
            <a:ext cx="1175040" cy="1081800"/>
            <a:chOff x="2193840" y="5214600"/>
            <a:chExt cx="1175040" cy="1081800"/>
          </a:xfrm>
        </p:grpSpPr>
        <p:grpSp>
          <p:nvGrpSpPr>
            <p:cNvPr id="107" name=""/>
            <p:cNvGrpSpPr/>
            <p:nvPr/>
          </p:nvGrpSpPr>
          <p:grpSpPr>
            <a:xfrm>
              <a:off x="2290320" y="5214600"/>
              <a:ext cx="1078560" cy="1081800"/>
              <a:chOff x="2290320" y="5214600"/>
              <a:chExt cx="1078560" cy="1081800"/>
            </a:xfrm>
          </p:grpSpPr>
          <p:sp>
            <p:nvSpPr>
              <p:cNvPr id="108" name=""/>
              <p:cNvSpPr/>
              <p:nvPr/>
            </p:nvSpPr>
            <p:spPr>
              <a:xfrm flipH="1" rot="2830800">
                <a:off x="2379960" y="5463360"/>
                <a:ext cx="485280" cy="2167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2830800">
                <a:off x="2322720" y="5249880"/>
                <a:ext cx="168480" cy="163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70560" y="5758560"/>
                <a:ext cx="139680" cy="25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10600" y="6010920"/>
                <a:ext cx="214920" cy="13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97200" y="5740920"/>
                <a:ext cx="193680" cy="21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88000" y="5953320"/>
                <a:ext cx="196200" cy="12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29120" y="6153480"/>
                <a:ext cx="1321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76280" y="6080040"/>
                <a:ext cx="147960" cy="12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2280" y="6144840"/>
                <a:ext cx="179640" cy="8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77000" y="6072840"/>
                <a:ext cx="19188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2830800">
                <a:off x="2556000" y="5419800"/>
                <a:ext cx="327240" cy="78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317400" y="6142680"/>
                <a:ext cx="40320" cy="6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254040" y="6226560"/>
                <a:ext cx="43920" cy="6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216880" y="5371920"/>
              <a:ext cx="280080" cy="111960"/>
            </a:xfrm>
            <a:custGeom>
              <a:avLst/>
              <a:gdLst/>
              <a:ahLst/>
              <a:rect l="l" t="t" r="r" b="b"/>
              <a:pathLst>
                <a:path w="435" h="203">
                  <a:moveTo>
                    <a:pt x="435" y="165"/>
                  </a:moveTo>
                  <a:cubicBezTo>
                    <a:pt x="417" y="173"/>
                    <a:pt x="400" y="181"/>
                    <a:pt x="375" y="187"/>
                  </a:cubicBezTo>
                  <a:cubicBezTo>
                    <a:pt x="350" y="193"/>
                    <a:pt x="315" y="203"/>
                    <a:pt x="285" y="202"/>
                  </a:cubicBezTo>
                  <a:cubicBezTo>
                    <a:pt x="255" y="201"/>
                    <a:pt x="226" y="192"/>
                    <a:pt x="195" y="180"/>
                  </a:cubicBezTo>
                  <a:cubicBezTo>
                    <a:pt x="164" y="168"/>
                    <a:pt x="122" y="146"/>
                    <a:pt x="97" y="127"/>
                  </a:cubicBezTo>
                  <a:cubicBezTo>
                    <a:pt x="72" y="108"/>
                    <a:pt x="61" y="88"/>
                    <a:pt x="45" y="67"/>
                  </a:cubicBezTo>
                  <a:cubicBezTo>
                    <a:pt x="29" y="46"/>
                    <a:pt x="7" y="10"/>
                    <a:pt x="0" y="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3840" y="5459400"/>
              <a:ext cx="275400" cy="109440"/>
            </a:xfrm>
            <a:custGeom>
              <a:avLst/>
              <a:gdLst/>
              <a:ahLst/>
              <a:rect l="l" t="t" r="r" b="b"/>
              <a:pathLst>
                <a:path w="472" h="188">
                  <a:moveTo>
                    <a:pt x="472" y="133"/>
                  </a:moveTo>
                  <a:cubicBezTo>
                    <a:pt x="450" y="145"/>
                    <a:pt x="428" y="156"/>
                    <a:pt x="398" y="165"/>
                  </a:cubicBezTo>
                  <a:cubicBezTo>
                    <a:pt x="367" y="174"/>
                    <a:pt x="324" y="188"/>
                    <a:pt x="287" y="187"/>
                  </a:cubicBezTo>
                  <a:cubicBezTo>
                    <a:pt x="251" y="185"/>
                    <a:pt x="214" y="172"/>
                    <a:pt x="177" y="155"/>
                  </a:cubicBezTo>
                  <a:cubicBezTo>
                    <a:pt x="138" y="137"/>
                    <a:pt x="83" y="102"/>
                    <a:pt x="56" y="78"/>
                  </a:cubicBezTo>
                  <a:cubicBezTo>
                    <a:pt x="29" y="54"/>
                    <a:pt x="22" y="24"/>
                    <a:pt x="13" y="12"/>
                  </a:cubicBezTo>
                  <a:cubicBezTo>
                    <a:pt x="4" y="0"/>
                    <a:pt x="3" y="5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35720" y="3028320"/>
            <a:ext cx="905400" cy="1616040"/>
            <a:chOff x="1935720" y="3028320"/>
            <a:chExt cx="905400" cy="1616040"/>
          </a:xfrm>
        </p:grpSpPr>
        <p:grpSp>
          <p:nvGrpSpPr>
            <p:cNvPr id="124" name=""/>
            <p:cNvGrpSpPr/>
            <p:nvPr/>
          </p:nvGrpSpPr>
          <p:grpSpPr>
            <a:xfrm>
              <a:off x="1935720" y="3028320"/>
              <a:ext cx="401400" cy="1529280"/>
              <a:chOff x="1935720" y="3028320"/>
              <a:chExt cx="401400" cy="1529280"/>
            </a:xfrm>
          </p:grpSpPr>
          <p:sp>
            <p:nvSpPr>
              <p:cNvPr id="125" name=""/>
              <p:cNvSpPr/>
              <p:nvPr/>
            </p:nvSpPr>
            <p:spPr>
              <a:xfrm rot="16488000">
                <a:off x="1924920" y="336600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488000">
                <a:off x="2124720" y="303804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92760" y="375120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149200" y="406692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136240" y="375408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051280" y="407016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2131200" y="434196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016360" y="431028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050920" y="432972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935720" y="430380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488000">
                <a:off x="1850400" y="341064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42200" y="448920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51640" y="452160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360" y="3270960"/>
              <a:ext cx="572760" cy="1373400"/>
              <a:chOff x="2268360" y="3270960"/>
              <a:chExt cx="572760" cy="137340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541240" y="3270960"/>
                <a:ext cx="299880" cy="1373400"/>
                <a:chOff x="2541240" y="3270960"/>
                <a:chExt cx="299880" cy="1373400"/>
              </a:xfrm>
            </p:grpSpPr>
            <p:sp>
              <p:nvSpPr>
                <p:cNvPr id="140" name=""/>
                <p:cNvSpPr/>
                <p:nvPr/>
              </p:nvSpPr>
              <p:spPr>
                <a:xfrm flipH="1" rot="5356200">
                  <a:off x="2409480" y="357048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rot="5356200">
                  <a:off x="2568960" y="327456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2571840" y="391644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572560" y="419724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2667240" y="392112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667240" y="420660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638440" y="444960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722680" y="442692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38800" y="443880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28080" y="442224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rot="5356200">
                  <a:off x="2635560" y="362124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2740680" y="459504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2635920" y="461700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2268360" y="342900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06520" y="335592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1638360" y="5054760"/>
            <a:ext cx="114120" cy="114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31880" y="5207040"/>
            <a:ext cx="114480" cy="11412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81360" y="4991040"/>
            <a:ext cx="114120" cy="114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85960" y="5124600"/>
            <a:ext cx="304920" cy="30456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55840" y="4889520"/>
            <a:ext cx="260280" cy="304920"/>
          </a:xfrm>
          <a:prstGeom prst="upArrow">
            <a:avLst>
              <a:gd name="adj1" fmla="val 50000"/>
              <a:gd name="adj2" fmla="val 292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3520" y="630072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Century Gothic"/>
              </a:rPr>
              <a:t>20 mè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954800" y="1071000"/>
            <a:ext cx="896040" cy="1606680"/>
            <a:chOff x="1954800" y="1071000"/>
            <a:chExt cx="896040" cy="1606680"/>
          </a:xfrm>
        </p:grpSpPr>
        <p:grpSp>
          <p:nvGrpSpPr>
            <p:cNvPr id="162" name=""/>
            <p:cNvGrpSpPr/>
            <p:nvPr/>
          </p:nvGrpSpPr>
          <p:grpSpPr>
            <a:xfrm>
              <a:off x="1954800" y="1071000"/>
              <a:ext cx="401400" cy="1529280"/>
              <a:chOff x="1954800" y="1071000"/>
              <a:chExt cx="401400" cy="1529280"/>
            </a:xfrm>
          </p:grpSpPr>
          <p:sp>
            <p:nvSpPr>
              <p:cNvPr id="163" name=""/>
              <p:cNvSpPr/>
              <p:nvPr/>
            </p:nvSpPr>
            <p:spPr>
              <a:xfrm rot="16488000">
                <a:off x="1944000" y="140868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488000">
                <a:off x="2143800" y="108072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11840" y="179388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168280" y="210960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155320" y="179676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070360" y="211284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150280" y="238464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035440" y="235296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070000" y="237240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954800" y="234648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488000">
                <a:off x="1869480" y="145332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61280" y="253188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70720" y="256428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78080" y="1304280"/>
              <a:ext cx="572760" cy="1373400"/>
              <a:chOff x="2278080" y="1304280"/>
              <a:chExt cx="572760" cy="13734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550960" y="1304280"/>
                <a:ext cx="299880" cy="1373400"/>
                <a:chOff x="2550960" y="1304280"/>
                <a:chExt cx="299880" cy="13734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5356200">
                  <a:off x="2419200" y="160380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5356200">
                  <a:off x="2578680" y="130788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2581560" y="194976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82280" y="223056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676960" y="195444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676960" y="223992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648160" y="248292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2400" y="246024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48520" y="247212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37800" y="245556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rot="5356200">
                  <a:off x="2645280" y="165456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2750400" y="262836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2645640" y="265032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2278080" y="146232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6240" y="138924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790640" y="3441600"/>
            <a:ext cx="114480" cy="11448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213000"/>
            <a:ext cx="184320" cy="184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1960" y="3587760"/>
            <a:ext cx="222120" cy="22212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4560" y="3371760"/>
            <a:ext cx="177840" cy="17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20800" y="1149480"/>
            <a:ext cx="279360" cy="279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3240" y="1486080"/>
            <a:ext cx="114480" cy="11412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44720" y="1282680"/>
            <a:ext cx="292320" cy="291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0120" y="1619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79880" y="723960"/>
            <a:ext cx="20667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0720" y="53964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Century Gothic"/>
              </a:rPr>
              <a:t>10 mè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889280" y="861840"/>
            <a:ext cx="303120" cy="446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679840" y="995400"/>
            <a:ext cx="303120" cy="446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238720" y="1058760"/>
            <a:ext cx="0" cy="50259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9160" y="75564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303"/>
                </a:solidFill>
                <a:latin typeface="Century Gothic"/>
              </a:rPr>
              <a:t>ON PU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727800">
            <a:off x="1222200" y="535464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303"/>
                </a:solidFill>
                <a:latin typeface="Century Gothic"/>
              </a:rPr>
              <a:t>DET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2317200">
            <a:off x="3043080" y="5807160"/>
            <a:ext cx="131760" cy="652320"/>
          </a:xfrm>
          <a:custGeom>
            <a:avLst/>
            <a:gdLst>
              <a:gd name="textAreaLeft" fmla="*/ 17640 w 131760"/>
              <a:gd name="textAreaRight" fmla="*/ 114120 w 131760"/>
              <a:gd name="textAreaTop" fmla="*/ 114120 h 652320"/>
              <a:gd name="textAreaBottom" fmla="*/ 47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08960" y="52070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entury Gothic"/>
              </a:rPr>
              <a:t>E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entury Gothic"/>
              </a:rPr>
              <a:t>RECOMM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323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190520" y="5424840"/>
            <a:ext cx="1197360" cy="1201680"/>
            <a:chOff x="1190520" y="5424840"/>
            <a:chExt cx="1197360" cy="1201680"/>
          </a:xfrm>
        </p:grpSpPr>
        <p:sp>
          <p:nvSpPr>
            <p:cNvPr id="211" name=""/>
            <p:cNvSpPr/>
            <p:nvPr/>
          </p:nvSpPr>
          <p:spPr>
            <a:xfrm rot="18769200">
              <a:off x="1749240" y="5700960"/>
              <a:ext cx="539280" cy="240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69200">
              <a:off x="2163960" y="5464080"/>
              <a:ext cx="187200" cy="18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698840" y="6029280"/>
              <a:ext cx="15552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459800" y="6308280"/>
              <a:ext cx="239040" cy="15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609920" y="6009840"/>
              <a:ext cx="214920" cy="24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395000" y="6246000"/>
              <a:ext cx="218520" cy="1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309320" y="6467760"/>
              <a:ext cx="14688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239120" y="6386400"/>
              <a:ext cx="164160" cy="1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264680" y="6458760"/>
              <a:ext cx="199800" cy="9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190520" y="6378120"/>
              <a:ext cx="213120" cy="8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769200">
              <a:off x="1728360" y="5653080"/>
              <a:ext cx="363600" cy="878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3" y="0"/>
                  </a:moveTo>
                  <a:cubicBezTo>
                    <a:pt x="2" y="0"/>
                    <a:pt x="0" y="1"/>
                    <a:pt x="0" y="2"/>
                  </a:cubicBezTo>
                  <a:lnTo>
                    <a:pt x="0" y="12"/>
                  </a:lnTo>
                  <a:cubicBezTo>
                    <a:pt x="0" y="14"/>
                    <a:pt x="2" y="15"/>
                    <a:pt x="3" y="15"/>
                  </a:cubicBezTo>
                  <a:lnTo>
                    <a:pt x="59" y="15"/>
                  </a:lnTo>
                  <a:cubicBezTo>
                    <a:pt x="61" y="15"/>
                    <a:pt x="62" y="14"/>
                    <a:pt x="62" y="12"/>
                  </a:cubicBezTo>
                  <a:lnTo>
                    <a:pt x="62" y="2"/>
                  </a:lnTo>
                  <a:cubicBezTo>
                    <a:pt x="62" y="1"/>
                    <a:pt x="61" y="0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02400" y="6456240"/>
              <a:ext cx="4500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68640" y="6549120"/>
              <a:ext cx="4860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168640" y="5637240"/>
            <a:ext cx="1173960" cy="1081440"/>
            <a:chOff x="2168640" y="5637240"/>
            <a:chExt cx="1173960" cy="1081440"/>
          </a:xfrm>
        </p:grpSpPr>
        <p:grpSp>
          <p:nvGrpSpPr>
            <p:cNvPr id="225" name=""/>
            <p:cNvGrpSpPr/>
            <p:nvPr/>
          </p:nvGrpSpPr>
          <p:grpSpPr>
            <a:xfrm>
              <a:off x="2264400" y="5637240"/>
              <a:ext cx="1078200" cy="1081440"/>
              <a:chOff x="2264400" y="5637240"/>
              <a:chExt cx="1078200" cy="1081440"/>
            </a:xfrm>
          </p:grpSpPr>
          <p:sp>
            <p:nvSpPr>
              <p:cNvPr id="226" name=""/>
              <p:cNvSpPr/>
              <p:nvPr/>
            </p:nvSpPr>
            <p:spPr>
              <a:xfrm flipH="1" rot="2830800">
                <a:off x="2353680" y="5885640"/>
                <a:ext cx="485280" cy="2167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2830800">
                <a:off x="2297160" y="5672520"/>
                <a:ext cx="168480" cy="1630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44640" y="6180840"/>
                <a:ext cx="139680" cy="25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85040" y="6432480"/>
                <a:ext cx="21492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70920" y="6163200"/>
                <a:ext cx="193680" cy="21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61720" y="6375960"/>
                <a:ext cx="196200" cy="12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03200" y="6575760"/>
                <a:ext cx="1321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50360" y="6502320"/>
                <a:ext cx="147960" cy="12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96360" y="6567120"/>
                <a:ext cx="179640" cy="8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51080" y="6495480"/>
                <a:ext cx="191520" cy="7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2830800">
                <a:off x="2529720" y="5842440"/>
                <a:ext cx="327240" cy="78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291120" y="6565320"/>
                <a:ext cx="40320" cy="6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3228480" y="6648840"/>
                <a:ext cx="43560" cy="6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91680" y="5794200"/>
              <a:ext cx="280080" cy="111960"/>
            </a:xfrm>
            <a:custGeom>
              <a:avLst/>
              <a:gdLst/>
              <a:ahLst/>
              <a:rect l="l" t="t" r="r" b="b"/>
              <a:pathLst>
                <a:path w="435" h="203">
                  <a:moveTo>
                    <a:pt x="435" y="165"/>
                  </a:moveTo>
                  <a:cubicBezTo>
                    <a:pt x="417" y="173"/>
                    <a:pt x="400" y="181"/>
                    <a:pt x="375" y="187"/>
                  </a:cubicBezTo>
                  <a:cubicBezTo>
                    <a:pt x="350" y="193"/>
                    <a:pt x="315" y="203"/>
                    <a:pt x="285" y="202"/>
                  </a:cubicBezTo>
                  <a:cubicBezTo>
                    <a:pt x="255" y="201"/>
                    <a:pt x="226" y="192"/>
                    <a:pt x="195" y="180"/>
                  </a:cubicBezTo>
                  <a:cubicBezTo>
                    <a:pt x="164" y="168"/>
                    <a:pt x="122" y="146"/>
                    <a:pt x="97" y="127"/>
                  </a:cubicBezTo>
                  <a:cubicBezTo>
                    <a:pt x="72" y="108"/>
                    <a:pt x="61" y="88"/>
                    <a:pt x="45" y="67"/>
                  </a:cubicBezTo>
                  <a:cubicBezTo>
                    <a:pt x="29" y="46"/>
                    <a:pt x="7" y="10"/>
                    <a:pt x="0" y="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68640" y="5881680"/>
              <a:ext cx="275400" cy="109440"/>
            </a:xfrm>
            <a:custGeom>
              <a:avLst/>
              <a:gdLst/>
              <a:ahLst/>
              <a:rect l="l" t="t" r="r" b="b"/>
              <a:pathLst>
                <a:path w="472" h="188">
                  <a:moveTo>
                    <a:pt x="472" y="133"/>
                  </a:moveTo>
                  <a:cubicBezTo>
                    <a:pt x="450" y="145"/>
                    <a:pt x="428" y="156"/>
                    <a:pt x="398" y="165"/>
                  </a:cubicBezTo>
                  <a:cubicBezTo>
                    <a:pt x="367" y="174"/>
                    <a:pt x="324" y="188"/>
                    <a:pt x="287" y="187"/>
                  </a:cubicBezTo>
                  <a:cubicBezTo>
                    <a:pt x="251" y="185"/>
                    <a:pt x="214" y="172"/>
                    <a:pt x="177" y="155"/>
                  </a:cubicBezTo>
                  <a:cubicBezTo>
                    <a:pt x="138" y="137"/>
                    <a:pt x="83" y="102"/>
                    <a:pt x="56" y="78"/>
                  </a:cubicBezTo>
                  <a:cubicBezTo>
                    <a:pt x="29" y="54"/>
                    <a:pt x="22" y="24"/>
                    <a:pt x="13" y="12"/>
                  </a:cubicBezTo>
                  <a:cubicBezTo>
                    <a:pt x="4" y="0"/>
                    <a:pt x="3" y="5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778400" y="3733200"/>
            <a:ext cx="905400" cy="1616040"/>
            <a:chOff x="1778400" y="3733200"/>
            <a:chExt cx="905400" cy="1616040"/>
          </a:xfrm>
        </p:grpSpPr>
        <p:grpSp>
          <p:nvGrpSpPr>
            <p:cNvPr id="242" name=""/>
            <p:cNvGrpSpPr/>
            <p:nvPr/>
          </p:nvGrpSpPr>
          <p:grpSpPr>
            <a:xfrm>
              <a:off x="1778400" y="3733200"/>
              <a:ext cx="401400" cy="1529280"/>
              <a:chOff x="1778400" y="3733200"/>
              <a:chExt cx="401400" cy="1529280"/>
            </a:xfrm>
          </p:grpSpPr>
          <p:sp>
            <p:nvSpPr>
              <p:cNvPr id="243" name=""/>
              <p:cNvSpPr/>
              <p:nvPr/>
            </p:nvSpPr>
            <p:spPr>
              <a:xfrm rot="16488000">
                <a:off x="1767600" y="407088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488000">
                <a:off x="1967400" y="374292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35440" y="445608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991880" y="477180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978920" y="445896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893960" y="477504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1973880" y="504684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1859040" y="501516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893600" y="503460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778400" y="500868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88000">
                <a:off x="1693080" y="411552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84880" y="519408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94320" y="522648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111040" y="3975840"/>
              <a:ext cx="572760" cy="1373400"/>
              <a:chOff x="2111040" y="3975840"/>
              <a:chExt cx="572760" cy="13734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2383920" y="3975840"/>
                <a:ext cx="299880" cy="1373400"/>
                <a:chOff x="2383920" y="3975840"/>
                <a:chExt cx="299880" cy="13734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 rot="5356200">
                  <a:off x="2252160" y="427536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rot="5356200">
                  <a:off x="2411640" y="397944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2414520" y="462132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415240" y="490212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2509920" y="462600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509920" y="491148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81120" y="515448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513180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481480" y="514368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570760" y="512712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rot="5356200">
                  <a:off x="2478240" y="432612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2583360" y="529992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478600" y="532188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111040" y="413388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49200" y="406080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1778400" y="1934640"/>
            <a:ext cx="896040" cy="1606680"/>
            <a:chOff x="1778400" y="1934640"/>
            <a:chExt cx="896040" cy="1606680"/>
          </a:xfrm>
        </p:grpSpPr>
        <p:grpSp>
          <p:nvGrpSpPr>
            <p:cNvPr id="274" name=""/>
            <p:cNvGrpSpPr/>
            <p:nvPr/>
          </p:nvGrpSpPr>
          <p:grpSpPr>
            <a:xfrm>
              <a:off x="1778400" y="1934640"/>
              <a:ext cx="401400" cy="1529280"/>
              <a:chOff x="1778400" y="1934640"/>
              <a:chExt cx="401400" cy="1529280"/>
            </a:xfrm>
          </p:grpSpPr>
          <p:sp>
            <p:nvSpPr>
              <p:cNvPr id="275" name=""/>
              <p:cNvSpPr/>
              <p:nvPr/>
            </p:nvSpPr>
            <p:spPr>
              <a:xfrm rot="16488000">
                <a:off x="1767600" y="227232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6488000">
                <a:off x="1967400" y="194436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35440" y="265752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991880" y="297324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978920" y="266040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1893960" y="297648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973880" y="324828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1859040" y="321660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1893600" y="323604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1778400" y="321012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488000">
                <a:off x="1693080" y="231696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84880" y="339552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94320" y="342792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101680" y="2167920"/>
              <a:ext cx="572760" cy="1373400"/>
              <a:chOff x="2101680" y="2167920"/>
              <a:chExt cx="572760" cy="137340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2374560" y="2167920"/>
                <a:ext cx="299880" cy="1373400"/>
                <a:chOff x="2374560" y="2167920"/>
                <a:chExt cx="299880" cy="137340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rot="5356200">
                  <a:off x="2242800" y="246744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rot="5356200">
                  <a:off x="2402280" y="217152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2405160" y="281340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05880" y="309420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2500560" y="281808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00560" y="310356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471760" y="334656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56000" y="332388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472120" y="333576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561400" y="331920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rot="5356200">
                  <a:off x="2468880" y="251820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2574000" y="349200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2469240" y="351396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2101680" y="232596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9840" y="225288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3189960" y="1423440"/>
            <a:ext cx="896040" cy="1606680"/>
            <a:chOff x="3189960" y="1423440"/>
            <a:chExt cx="896040" cy="1606680"/>
          </a:xfrm>
        </p:grpSpPr>
        <p:grpSp>
          <p:nvGrpSpPr>
            <p:cNvPr id="306" name=""/>
            <p:cNvGrpSpPr/>
            <p:nvPr/>
          </p:nvGrpSpPr>
          <p:grpSpPr>
            <a:xfrm>
              <a:off x="3189960" y="1423440"/>
              <a:ext cx="401400" cy="1529280"/>
              <a:chOff x="3189960" y="1423440"/>
              <a:chExt cx="401400" cy="1529280"/>
            </a:xfrm>
          </p:grpSpPr>
          <p:sp>
            <p:nvSpPr>
              <p:cNvPr id="307" name=""/>
              <p:cNvSpPr/>
              <p:nvPr/>
            </p:nvSpPr>
            <p:spPr>
              <a:xfrm rot="16488000">
                <a:off x="3179160" y="176112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488000">
                <a:off x="3378960" y="143316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47000" y="214632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3403440" y="246204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390480" y="214920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3305520" y="246528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385440" y="273708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3270600" y="270540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305160" y="272484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189960" y="269892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488000">
                <a:off x="3104640" y="180576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96440" y="288432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305880" y="291672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13240" y="1656720"/>
              <a:ext cx="572760" cy="1373400"/>
              <a:chOff x="3513240" y="1656720"/>
              <a:chExt cx="572760" cy="1373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786120" y="1656720"/>
                <a:ext cx="299880" cy="1373400"/>
                <a:chOff x="3786120" y="1656720"/>
                <a:chExt cx="299880" cy="1373400"/>
              </a:xfrm>
            </p:grpSpPr>
            <p:sp>
              <p:nvSpPr>
                <p:cNvPr id="322" name=""/>
                <p:cNvSpPr/>
                <p:nvPr/>
              </p:nvSpPr>
              <p:spPr>
                <a:xfrm flipH="1" rot="5356200">
                  <a:off x="3654360" y="195624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rot="5356200">
                  <a:off x="3813840" y="166032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3816720" y="230220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817440" y="258300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3912120" y="230688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912120" y="259236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883320" y="283536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967560" y="281268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83680" y="282456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972960" y="280800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rot="5356200">
                  <a:off x="3880440" y="200700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3985560" y="298080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3880800" y="300276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3513240" y="181476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51400" y="174168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4740840" y="453960"/>
            <a:ext cx="896040" cy="1605240"/>
            <a:chOff x="4740840" y="453960"/>
            <a:chExt cx="896040" cy="1605240"/>
          </a:xfrm>
        </p:grpSpPr>
        <p:grpSp>
          <p:nvGrpSpPr>
            <p:cNvPr id="338" name=""/>
            <p:cNvGrpSpPr/>
            <p:nvPr/>
          </p:nvGrpSpPr>
          <p:grpSpPr>
            <a:xfrm>
              <a:off x="4740840" y="453960"/>
              <a:ext cx="401400" cy="1528920"/>
              <a:chOff x="4740840" y="453960"/>
              <a:chExt cx="401400" cy="1528920"/>
            </a:xfrm>
          </p:grpSpPr>
          <p:sp>
            <p:nvSpPr>
              <p:cNvPr id="339" name=""/>
              <p:cNvSpPr/>
              <p:nvPr/>
            </p:nvSpPr>
            <p:spPr>
              <a:xfrm rot="16488000">
                <a:off x="4730040" y="79128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488000">
                <a:off x="4929840" y="46368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97880" y="1176480"/>
                <a:ext cx="49680" cy="31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954320" y="1492920"/>
                <a:ext cx="92880" cy="26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4941360" y="117972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856400" y="149544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936320" y="176724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821480" y="173556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856040" y="175500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740840" y="172908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6488000">
                <a:off x="4655520" y="83628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47320" y="191448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56760" y="194688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064120" y="686160"/>
              <a:ext cx="572760" cy="1373040"/>
              <a:chOff x="5064120" y="686160"/>
              <a:chExt cx="572760" cy="13730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5337000" y="686160"/>
                <a:ext cx="299880" cy="1373040"/>
                <a:chOff x="5337000" y="686160"/>
                <a:chExt cx="299880" cy="1373040"/>
              </a:xfrm>
            </p:grpSpPr>
            <p:sp>
              <p:nvSpPr>
                <p:cNvPr id="354" name=""/>
                <p:cNvSpPr/>
                <p:nvPr/>
              </p:nvSpPr>
              <p:spPr>
                <a:xfrm flipH="1" rot="5356200">
                  <a:off x="5205240" y="98532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rot="5356200">
                  <a:off x="5364720" y="68976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5367600" y="133128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368320" y="161208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5463000" y="1336680"/>
                  <a:ext cx="1440" cy="28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463000" y="162144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434200" y="186444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518440" y="184176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434560" y="185364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523840" y="183708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rot="5356200">
                  <a:off x="5431320" y="103644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5536440" y="200988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5431680" y="203184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5064120" y="844200"/>
                <a:ext cx="365040" cy="17100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02280" y="771120"/>
                <a:ext cx="250920" cy="16632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69" name=""/>
          <p:cNvGraphicFramePr/>
          <p:nvPr/>
        </p:nvGraphicFramePr>
        <p:xfrm>
          <a:off x="-1762200" y="0"/>
          <a:ext cx="1259532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2200" y="0"/>
                    <a:ext cx="1259532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1648800" y="655308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Century Gothic"/>
              </a:rPr>
              <a:t>20 mè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20800" y="5619600"/>
            <a:ext cx="74520" cy="7488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20800" y="5499000"/>
            <a:ext cx="74520" cy="74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8918600">
            <a:off x="1532880" y="5618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303"/>
                </a:solidFill>
                <a:latin typeface="Century Gothic"/>
              </a:rPr>
              <a:t>DET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38600" y="5797440"/>
            <a:ext cx="393480" cy="39384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4400" y="5664240"/>
            <a:ext cx="74880" cy="74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8409200">
            <a:off x="2819520" y="6444720"/>
            <a:ext cx="501480" cy="139680"/>
          </a:xfrm>
          <a:prstGeom prst="leftRight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981080" y="5975280"/>
            <a:ext cx="482400" cy="323640"/>
          </a:xfrm>
          <a:custGeom>
            <a:avLst/>
            <a:gdLst>
              <a:gd name="textAreaLeft" fmla="*/ 75240 w 482400"/>
              <a:gd name="textAreaRight" fmla="*/ 422280 w 482400"/>
              <a:gd name="textAreaTop" fmla="*/ 81000 h 323640"/>
              <a:gd name="textAreaBottom" fmla="*/ 243000 h 32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47800" y="3570120"/>
            <a:ext cx="1020960" cy="649440"/>
            <a:chOff x="1747800" y="3570120"/>
            <a:chExt cx="1020960" cy="649440"/>
          </a:xfrm>
        </p:grpSpPr>
        <p:pic>
          <p:nvPicPr>
            <p:cNvPr id="380" name="" descr=""/>
            <p:cNvPicPr/>
            <p:nvPr/>
          </p:nvPicPr>
          <p:blipFill>
            <a:blip r:embed="rId3"/>
            <a:stretch/>
          </p:blipFill>
          <p:spPr>
            <a:xfrm>
              <a:off x="1747800" y="3570120"/>
              <a:ext cx="303120" cy="4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4"/>
            <a:stretch/>
          </p:blipFill>
          <p:spPr>
            <a:xfrm>
              <a:off x="2465280" y="3773520"/>
              <a:ext cx="30348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1555920" y="3860640"/>
            <a:ext cx="1376280" cy="379440"/>
            <a:chOff x="1555920" y="3860640"/>
            <a:chExt cx="1376280" cy="379440"/>
          </a:xfrm>
        </p:grpSpPr>
        <p:sp>
          <p:nvSpPr>
            <p:cNvPr id="383" name=""/>
            <p:cNvSpPr/>
            <p:nvPr/>
          </p:nvSpPr>
          <p:spPr>
            <a:xfrm>
              <a:off x="1555920" y="3860640"/>
              <a:ext cx="207720" cy="195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24120" y="4044960"/>
              <a:ext cx="208080" cy="195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600200" y="4121280"/>
            <a:ext cx="1255680" cy="258480"/>
            <a:chOff x="1600200" y="4121280"/>
            <a:chExt cx="1255680" cy="258480"/>
          </a:xfrm>
        </p:grpSpPr>
        <p:sp>
          <p:nvSpPr>
            <p:cNvPr id="386" name=""/>
            <p:cNvSpPr/>
            <p:nvPr/>
          </p:nvSpPr>
          <p:spPr>
            <a:xfrm>
              <a:off x="1600200" y="4121280"/>
              <a:ext cx="112680" cy="11268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81360" y="4305240"/>
              <a:ext cx="74520" cy="7452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625760" y="3924360"/>
            <a:ext cx="1236600" cy="264960"/>
            <a:chOff x="1625760" y="3924360"/>
            <a:chExt cx="1236600" cy="264960"/>
          </a:xfrm>
        </p:grpSpPr>
        <p:sp>
          <p:nvSpPr>
            <p:cNvPr id="389" name=""/>
            <p:cNvSpPr/>
            <p:nvPr/>
          </p:nvSpPr>
          <p:spPr>
            <a:xfrm>
              <a:off x="1625760" y="3924360"/>
              <a:ext cx="74520" cy="74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87480" y="4114800"/>
              <a:ext cx="74880" cy="74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549440" y="1981080"/>
            <a:ext cx="1376280" cy="379440"/>
            <a:chOff x="1549440" y="1981080"/>
            <a:chExt cx="1376280" cy="379440"/>
          </a:xfrm>
        </p:grpSpPr>
        <p:sp>
          <p:nvSpPr>
            <p:cNvPr id="392" name=""/>
            <p:cNvSpPr/>
            <p:nvPr/>
          </p:nvSpPr>
          <p:spPr>
            <a:xfrm>
              <a:off x="1549440" y="1981080"/>
              <a:ext cx="207720" cy="195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17640" y="2165400"/>
              <a:ext cx="208080" cy="195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593720" y="2266920"/>
            <a:ext cx="1255680" cy="258480"/>
            <a:chOff x="1593720" y="2266920"/>
            <a:chExt cx="1255680" cy="258480"/>
          </a:xfrm>
        </p:grpSpPr>
        <p:sp>
          <p:nvSpPr>
            <p:cNvPr id="395" name=""/>
            <p:cNvSpPr/>
            <p:nvPr/>
          </p:nvSpPr>
          <p:spPr>
            <a:xfrm>
              <a:off x="1593720" y="2266920"/>
              <a:ext cx="112680" cy="11268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74880" y="2450880"/>
              <a:ext cx="74520" cy="7452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724120" y="4260960"/>
            <a:ext cx="209520" cy="20952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735200" y="1722600"/>
            <a:ext cx="1020240" cy="648720"/>
            <a:chOff x="1735200" y="1722600"/>
            <a:chExt cx="1020240" cy="648720"/>
          </a:xfrm>
        </p:grpSpPr>
        <p:pic>
          <p:nvPicPr>
            <p:cNvPr id="399" name="" descr=""/>
            <p:cNvPicPr/>
            <p:nvPr/>
          </p:nvPicPr>
          <p:blipFill>
            <a:blip r:embed="rId5"/>
            <a:stretch/>
          </p:blipFill>
          <p:spPr>
            <a:xfrm>
              <a:off x="1735200" y="1722600"/>
              <a:ext cx="3027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6"/>
            <a:stretch/>
          </p:blipFill>
          <p:spPr>
            <a:xfrm>
              <a:off x="2452320" y="1925640"/>
              <a:ext cx="303120" cy="44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/>
          <p:cNvSpPr/>
          <p:nvPr/>
        </p:nvSpPr>
        <p:spPr>
          <a:xfrm>
            <a:off x="2698920" y="2374920"/>
            <a:ext cx="253800" cy="25416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619280" y="2038320"/>
            <a:ext cx="1236600" cy="264960"/>
            <a:chOff x="1619280" y="2038320"/>
            <a:chExt cx="1236600" cy="264960"/>
          </a:xfrm>
        </p:grpSpPr>
        <p:sp>
          <p:nvSpPr>
            <p:cNvPr id="403" name=""/>
            <p:cNvSpPr/>
            <p:nvPr/>
          </p:nvSpPr>
          <p:spPr>
            <a:xfrm>
              <a:off x="1619280" y="2038320"/>
              <a:ext cx="74520" cy="74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81000" y="2228760"/>
              <a:ext cx="74880" cy="74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009960" y="1523880"/>
            <a:ext cx="1236600" cy="264960"/>
            <a:chOff x="3009960" y="1523880"/>
            <a:chExt cx="1236600" cy="264960"/>
          </a:xfrm>
        </p:grpSpPr>
        <p:sp>
          <p:nvSpPr>
            <p:cNvPr id="406" name=""/>
            <p:cNvSpPr/>
            <p:nvPr/>
          </p:nvSpPr>
          <p:spPr>
            <a:xfrm>
              <a:off x="3009960" y="1523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71680" y="1714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944800" y="1465200"/>
            <a:ext cx="1376280" cy="379440"/>
            <a:chOff x="2944800" y="1465200"/>
            <a:chExt cx="1376280" cy="379440"/>
          </a:xfrm>
        </p:grpSpPr>
        <p:sp>
          <p:nvSpPr>
            <p:cNvPr id="409" name=""/>
            <p:cNvSpPr/>
            <p:nvPr/>
          </p:nvSpPr>
          <p:spPr>
            <a:xfrm>
              <a:off x="2944800" y="1465200"/>
              <a:ext cx="207720" cy="195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3000" y="1649520"/>
              <a:ext cx="208080" cy="195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144960" y="1246320"/>
            <a:ext cx="1020240" cy="648720"/>
            <a:chOff x="3144960" y="1246320"/>
            <a:chExt cx="1020240" cy="648720"/>
          </a:xfrm>
        </p:grpSpPr>
        <p:pic>
          <p:nvPicPr>
            <p:cNvPr id="412" name="" descr=""/>
            <p:cNvPicPr/>
            <p:nvPr/>
          </p:nvPicPr>
          <p:blipFill>
            <a:blip r:embed="rId7"/>
            <a:stretch/>
          </p:blipFill>
          <p:spPr>
            <a:xfrm>
              <a:off x="3144960" y="1246320"/>
              <a:ext cx="3027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8"/>
            <a:stretch/>
          </p:blipFill>
          <p:spPr>
            <a:xfrm>
              <a:off x="3862080" y="1449360"/>
              <a:ext cx="303120" cy="44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"/>
          <p:cNvGrpSpPr/>
          <p:nvPr/>
        </p:nvGrpSpPr>
        <p:grpSpPr>
          <a:xfrm>
            <a:off x="2997360" y="1746360"/>
            <a:ext cx="1255680" cy="258480"/>
            <a:chOff x="2997360" y="1746360"/>
            <a:chExt cx="1255680" cy="258480"/>
          </a:xfrm>
        </p:grpSpPr>
        <p:sp>
          <p:nvSpPr>
            <p:cNvPr id="415" name=""/>
            <p:cNvSpPr/>
            <p:nvPr/>
          </p:nvSpPr>
          <p:spPr>
            <a:xfrm>
              <a:off x="2997360" y="1746360"/>
              <a:ext cx="112680" cy="11268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78520" y="1930320"/>
              <a:ext cx="74520" cy="7452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114800" y="1873080"/>
            <a:ext cx="196920" cy="19692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702760" y="231840"/>
            <a:ext cx="967320" cy="2021400"/>
            <a:chOff x="5702760" y="231840"/>
            <a:chExt cx="967320" cy="2021400"/>
          </a:xfrm>
        </p:grpSpPr>
        <p:sp>
          <p:nvSpPr>
            <p:cNvPr id="419" name=""/>
            <p:cNvSpPr/>
            <p:nvPr/>
          </p:nvSpPr>
          <p:spPr>
            <a:xfrm>
              <a:off x="5709240" y="194616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Century Gothic"/>
                </a:rPr>
                <a:t>6 mèt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02760" y="23184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Century Gothic"/>
                </a:rPr>
                <a:t>3 mèt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557600" y="542880"/>
            <a:ext cx="1236600" cy="264960"/>
            <a:chOff x="4557600" y="542880"/>
            <a:chExt cx="1236600" cy="264960"/>
          </a:xfrm>
        </p:grpSpPr>
        <p:sp>
          <p:nvSpPr>
            <p:cNvPr id="422" name=""/>
            <p:cNvSpPr/>
            <p:nvPr/>
          </p:nvSpPr>
          <p:spPr>
            <a:xfrm>
              <a:off x="4557600" y="542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19320" y="733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533840" y="666720"/>
            <a:ext cx="133560" cy="13356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95920" y="843120"/>
            <a:ext cx="133560" cy="13788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09920" y="595440"/>
            <a:ext cx="25077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entury Gothic"/>
              </a:rPr>
              <a:t>LES STABS SONT 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entury Gothic"/>
              </a:rPr>
              <a:t>LA STABILISATION 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entury Gothic"/>
              </a:rPr>
              <a:t>REALISE AU POUMON BAL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Century Gothic"/>
              </a:rPr>
              <a:t>ON RESTE AU MO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4fd2b"/>
                </a:solidFill>
                <a:latin typeface="Century Gothic"/>
              </a:rPr>
              <a:t>3 à 4 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LON Joêl</cp:lastModifiedBy>
  <dcterms:modified xsi:type="dcterms:W3CDTF">2000-03-30T09:49:18Z</dcterms:modified>
  <cp:revision>13</cp:revision>
  <dc:subject/>
  <dc:title>Aucun titre de diapositive</dc:title>
</cp:coreProperties>
</file>