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EABF-B3B7-470D-BE58-32CE2AD7D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D712-5A94-4399-B763-CB0E97D1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0B07-D6AF-4FD8-8BD3-6433C32A4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52CF-1022-439E-9B2F-EFA0EB21E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CC1E-B220-46D2-9C08-193C3D40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FFED-7410-4429-ABCC-4D07B9C4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1A24-CC8F-4DA3-A838-CC80A66E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B2C7-37AB-43C7-8382-B5BD9596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CD78-451E-40F9-847E-CE3C5E51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C363-17C2-4106-8284-49E94563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54FA-C0CC-4CD0-B8C4-B1C34162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864F-79C1-4746-AEF4-F5BE5913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B63B-A156-4679-B659-586FB2F8EA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0640" y="2895480"/>
            <a:ext cx="5867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LA FORMATION DE CADRES MONITEU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14640" y="5475240"/>
            <a:ext cx="24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oël TALON IR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FEDERATION FRANCAISE D ’ETUDES ET DE SPORTS SOUS_MAR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5320" y="12384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ITE INTERREGIONAL AQUITAINE LIMOUSIN POITOU CHAR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52480" y="609480"/>
            <a:ext cx="2057400" cy="459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MF2 BEE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52480" y="2962440"/>
            <a:ext cx="2057400" cy="459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MF1 BEE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857840"/>
            <a:ext cx="2057400" cy="4597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EL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49600" y="463680"/>
            <a:ext cx="3599280" cy="9140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Donne, élabore, fa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trouver des « moyens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618520" y="2921040"/>
            <a:ext cx="2799720" cy="5094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labore une leç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08720" y="4799160"/>
            <a:ext cx="3216240" cy="131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Acquérir un savoir faire, savoir être, savoir pen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52960" y="695160"/>
            <a:ext cx="1143000" cy="381240"/>
          </a:xfrm>
          <a:prstGeom prst="rightArrow">
            <a:avLst>
              <a:gd name="adj1" fmla="val 50000"/>
              <a:gd name="adj2" fmla="val 7495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72040" y="3048120"/>
            <a:ext cx="1143000" cy="380880"/>
          </a:xfrm>
          <a:prstGeom prst="rightArrow">
            <a:avLst>
              <a:gd name="adj1" fmla="val 50000"/>
              <a:gd name="adj2" fmla="val 7502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72040" y="4952880"/>
            <a:ext cx="1143000" cy="381240"/>
          </a:xfrm>
          <a:prstGeom prst="rightArrow">
            <a:avLst>
              <a:gd name="adj1" fmla="val 50000"/>
              <a:gd name="adj2" fmla="val 7495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9021600">
            <a:off x="2806200" y="1869840"/>
            <a:ext cx="2654280" cy="406440"/>
          </a:xfrm>
          <a:prstGeom prst="rightArrow">
            <a:avLst>
              <a:gd name="adj1" fmla="val 50000"/>
              <a:gd name="adj2" fmla="val 1632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9097800">
            <a:off x="3050640" y="3894840"/>
            <a:ext cx="2597400" cy="406440"/>
          </a:xfrm>
          <a:prstGeom prst="rightArrow">
            <a:avLst>
              <a:gd name="adj1" fmla="val 50000"/>
              <a:gd name="adj2" fmla="val 15976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371600"/>
            <a:ext cx="27259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Devenir moniteur 2° degré formateur de cad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9960" y="5715000"/>
            <a:ext cx="23241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Devenir plong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080" y="3676680"/>
            <a:ext cx="27810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Devenir moniteur 1° degré formateur de plong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8120" y="204840"/>
            <a:ext cx="30286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OBJECTIF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03280" y="890640"/>
            <a:ext cx="3001320" cy="1451160"/>
            <a:chOff x="503280" y="890640"/>
            <a:chExt cx="3001320" cy="1451160"/>
          </a:xfrm>
        </p:grpSpPr>
        <p:sp>
          <p:nvSpPr>
            <p:cNvPr id="61" name=""/>
            <p:cNvSpPr/>
            <p:nvPr/>
          </p:nvSpPr>
          <p:spPr>
            <a:xfrm>
              <a:off x="503280" y="1495440"/>
              <a:ext cx="3001320" cy="8463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339933"/>
                  </a:solidFill>
                  <a:latin typeface="Comic Sans MS"/>
                </a:rPr>
                <a:t>Devenir MF2-BE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339933"/>
                  </a:solidFill>
                  <a:latin typeface="Comic Sans MS"/>
                </a:rPr>
                <a:t>Formateur de cadr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1761840" y="890640"/>
              <a:ext cx="116208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921120" y="1317600"/>
            <a:ext cx="2544840" cy="1218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Devenir MF1-BE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Formateur 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plongeu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05080" y="909720"/>
            <a:ext cx="137160" cy="39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6800" y="2557440"/>
            <a:ext cx="3048120" cy="3576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Comic Sans MS"/>
              </a:rPr>
              <a:t>Donner, créer, faire trouver, des « moyens » à son futur cadre pour qu ’il puisse élaborer sa leç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Comic Sans MS"/>
              </a:rPr>
              <a:t>Et en aucun cas lui donner la leçon toute faite !!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70520" y="2770200"/>
            <a:ext cx="2304720" cy="394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oit apprendre à élaborer une leçon destinée à des élèves en formation de plongeu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çon qui sera adaptée à l’objectif fix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05720" y="2743200"/>
            <a:ext cx="1866960" cy="2288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Acquérir un nouveau savoir être, savoir faire, savoir pens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77720" y="1484280"/>
            <a:ext cx="1584360" cy="914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Deven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plong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31880" y="816480"/>
            <a:ext cx="1118880" cy="55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3280" y="1495440"/>
            <a:ext cx="3001320" cy="84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9933"/>
                </a:solidFill>
                <a:latin typeface="Comic Sans MS"/>
              </a:rPr>
              <a:t>Devenir MF2-BE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9933"/>
                </a:solidFill>
                <a:latin typeface="Comic Sans MS"/>
              </a:rPr>
              <a:t>Formateur de cad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762200" y="890640"/>
            <a:ext cx="116208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4120" y="249120"/>
            <a:ext cx="77724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TRATEGIE PEDAGOG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846440" y="1092240"/>
            <a:ext cx="5208480" cy="71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BJECTIF DE LA LECON PARFAITEMENT EXPLICITE ET PREAMBULE DE 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1120" y="3451320"/>
            <a:ext cx="8301240" cy="588960"/>
          </a:xfrm>
          <a:prstGeom prst="rightArrow">
            <a:avLst>
              <a:gd name="adj1" fmla="val 32676"/>
              <a:gd name="adj2" fmla="val 10806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06920" y="3627360"/>
            <a:ext cx="41385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ROGRESSION D’ACQUISITION DES SAVO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3440" y="4021200"/>
            <a:ext cx="15922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NIVEAU INI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446960" y="4062240"/>
            <a:ext cx="15717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NIVEAU F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610000" y="1798560"/>
            <a:ext cx="1162080" cy="1838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6840" y="2754360"/>
            <a:ext cx="1427400" cy="301680"/>
          </a:xfrm>
          <a:prstGeom prst="wedgeRoundRectCallout">
            <a:avLst>
              <a:gd name="adj1" fmla="val 43884"/>
              <a:gd name="adj2" fmla="val 240000"/>
              <a:gd name="adj3" fmla="val 1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RE REQU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00560" y="2527200"/>
            <a:ext cx="1201680" cy="650880"/>
          </a:xfrm>
          <a:prstGeom prst="wedgeRoundRectCallout">
            <a:avLst>
              <a:gd name="adj1" fmla="val -89893"/>
              <a:gd name="adj2" fmla="val 120976"/>
              <a:gd name="adj3" fmla="val 1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ONTRÔLE ET COURS SUIV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43720" y="4827600"/>
            <a:ext cx="2260440" cy="1719360"/>
          </a:xfrm>
          <a:prstGeom prst="wedgeEllipseCallout">
            <a:avLst>
              <a:gd name="adj1" fmla="val -105125"/>
              <a:gd name="adj2" fmla="val -10715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EFERENTI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U NIVE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0680" y="4622760"/>
            <a:ext cx="1650960" cy="1704960"/>
          </a:xfrm>
          <a:prstGeom prst="wedgeRoundRectCallout">
            <a:avLst>
              <a:gd name="adj1" fmla="val 74518"/>
              <a:gd name="adj2" fmla="val -40967"/>
              <a:gd name="adj3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Qu’est-ce que je ve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évelopper chez m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utur cadre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09760" y="4067280"/>
            <a:ext cx="1935360" cy="2120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apacités à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ommuni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Suivre une logi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Schémati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réer un formalis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éaliser une progre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Organiser une sé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S’adapter à un publ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S’adapter à un nivea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S’adapter à un li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Trier des connaissa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Etc 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0000" y="5038560"/>
            <a:ext cx="1935360" cy="1038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pacités à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réer un outil d’apprenti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réer un outil de compréhen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réer un outil d’acquisi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réer un outil d’appropri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réer un outil d’évalu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4304160" y="4199760"/>
            <a:ext cx="763560" cy="866520"/>
          </a:xfrm>
          <a:custGeom>
            <a:avLst/>
            <a:gdLst>
              <a:gd name="textAreaLeft" fmla="*/ 0 w 763560"/>
              <a:gd name="textAreaRight" fmla="*/ 763920 w 763560"/>
              <a:gd name="textAreaTop" fmla="*/ 0 h 866520"/>
              <a:gd name="textAreaBottom" fmla="*/ 866880 h 86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4" idx="2"/>
            <a:endCxn id="83" idx="2"/>
          </p:cNvCxnSpPr>
          <p:nvPr/>
        </p:nvCxnSpPr>
        <p:spPr>
          <a:xfrm rot="5400000">
            <a:off x="4272120" y="5082120"/>
            <a:ext cx="111960" cy="2100960"/>
          </a:xfrm>
          <a:prstGeom prst="curvedConnector5">
            <a:avLst>
              <a:gd name="adj1" fmla="val 305483"/>
              <a:gd name="adj2" fmla="val 49991"/>
              <a:gd name="adj3" fmla="val 305483"/>
            </a:avLst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3665520" y="6337440"/>
            <a:ext cx="1325520" cy="3711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nsfé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4760" y="1927080"/>
            <a:ext cx="966960" cy="757440"/>
          </a:xfrm>
          <a:prstGeom prst="wedgeRoundRectCallout">
            <a:avLst>
              <a:gd name="adj1" fmla="val -170361"/>
              <a:gd name="adj2" fmla="val -66351"/>
              <a:gd name="adj3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Sécur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uré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lais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43440" y="2797200"/>
            <a:ext cx="2163960" cy="501480"/>
          </a:xfrm>
          <a:prstGeom prst="wedgeRoundRectCallout">
            <a:avLst>
              <a:gd name="adj1" fmla="val -62986"/>
              <a:gd name="adj2" fmla="val 116453"/>
              <a:gd name="adj3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Fonction du lieu, public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ype de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5T18:02:47Z</dcterms:created>
  <dc:creator>Joël TALON</dc:creator>
  <dc:description/>
  <dc:language>en-US</dc:language>
  <cp:lastModifiedBy>TALON</cp:lastModifiedBy>
  <dcterms:modified xsi:type="dcterms:W3CDTF">2010-09-21T13:00:26Z</dcterms:modified>
  <cp:revision>11</cp:revision>
  <dc:subject/>
  <dc:title>Aucun titre de diapositive</dc:title>
</cp:coreProperties>
</file>