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669-68A5-4E54-A1A8-A7A5D22D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AF1-1676-497F-8CEC-3CDCAFCC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2E2-3057-4EBB-956B-7F37D46E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506-23EA-4E42-8568-30EE9C16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128-08A8-4E9E-8655-282B5464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5C3-FEB1-4148-AF91-5AC3EB39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BD2-D172-4C34-80BE-15BB480B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B38-3E54-4FFA-94D2-D18FD565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029-270B-4B87-BF48-AFA553A1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7CE-DCFA-4B53-A965-D4DEA842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FC1-469C-4795-A251-F5557CA8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567-A8F4-4EA2-9B78-2C0DB4CA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6B42-C95A-4329-A604-2AEEE1549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0640" y="2895480"/>
            <a:ext cx="586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LA FORMATION DE CADRES MONITEU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14640" y="547524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ël TALON IR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Comic Sans MS"/>
              </a:rPr>
              <a:t>FEDERATION FRANCAISE D ’ETUDES ET DE SPORTS SOUS_MAR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5320" y="1238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ITE INTERREGIONAL AQUITAINE LIMOUSIN POITOU CHA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52480" y="609480"/>
            <a:ext cx="2057400" cy="459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MF2 BE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2962440"/>
            <a:ext cx="205740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MF1 BE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857840"/>
            <a:ext cx="2057400" cy="459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L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49600" y="463680"/>
            <a:ext cx="3599280" cy="9140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Donne, élabore, fa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trouver des « moyen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18520" y="2921040"/>
            <a:ext cx="2799720" cy="5094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labore une leç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4799160"/>
            <a:ext cx="3216240" cy="13194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Acquérir un savoir faire, savoir être, savoir pen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52960" y="69516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72040" y="30481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72040" y="49528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9021600">
            <a:off x="2806200" y="1869840"/>
            <a:ext cx="2654280" cy="406440"/>
          </a:xfrm>
          <a:prstGeom prst="rightArrow">
            <a:avLst>
              <a:gd name="adj1" fmla="val 50000"/>
              <a:gd name="adj2" fmla="val 1632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9097800">
            <a:off x="3050640" y="3894840"/>
            <a:ext cx="2597400" cy="406440"/>
          </a:xfrm>
          <a:prstGeom prst="rightArrow">
            <a:avLst>
              <a:gd name="adj1" fmla="val 50000"/>
              <a:gd name="adj2" fmla="val 1597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371600"/>
            <a:ext cx="27259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evenir moniteur 2° degré formateur de ca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960" y="5715000"/>
            <a:ext cx="232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evenir plong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080" y="3676680"/>
            <a:ext cx="2781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evenir moniteur 1° degré formateur de plong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204840"/>
            <a:ext cx="3028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JECTI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03280" y="890640"/>
            <a:ext cx="3001320" cy="1451160"/>
            <a:chOff x="503280" y="890640"/>
            <a:chExt cx="3001320" cy="1451160"/>
          </a:xfrm>
        </p:grpSpPr>
        <p:sp>
          <p:nvSpPr>
            <p:cNvPr id="61" name=""/>
            <p:cNvSpPr/>
            <p:nvPr/>
          </p:nvSpPr>
          <p:spPr>
            <a:xfrm>
              <a:off x="503280" y="1495440"/>
              <a:ext cx="3001320" cy="846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9933"/>
                  </a:solidFill>
                  <a:latin typeface="Comic Sans MS"/>
                </a:rPr>
                <a:t>Devenir MF2-BE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9933"/>
                  </a:solidFill>
                  <a:latin typeface="Comic Sans MS"/>
                </a:rPr>
                <a:t>Formateur de cadr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761840" y="890640"/>
              <a:ext cx="116208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921120" y="1317600"/>
            <a:ext cx="2544840" cy="1218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Devenir MF1-BE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Formateur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plonge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05080" y="909720"/>
            <a:ext cx="137160" cy="39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6800" y="2557440"/>
            <a:ext cx="3048120" cy="357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Comic Sans MS"/>
              </a:rPr>
              <a:t>Donner, créer, faire trouver, des « moyens » à son futur cadre pour qu ’il puisse élaborer sa leç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Comic Sans MS"/>
              </a:rPr>
              <a:t>Et en aucun cas lui donner la leçon toute faite 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0520" y="2770200"/>
            <a:ext cx="2304720" cy="394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it apprendre à élaborer une leçon destinée à des élèves en formation de plongeu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çon qui sera adaptée à l’objectif fix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2743200"/>
            <a:ext cx="1866960" cy="2288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Acquérir un nouveau savoir être, savoir faire, savoir pen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77720" y="1484280"/>
            <a:ext cx="1584360" cy="91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Deve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plong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31880" y="816480"/>
            <a:ext cx="1118880" cy="55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3280" y="1495440"/>
            <a:ext cx="3001320" cy="84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Comic Sans MS"/>
              </a:rPr>
              <a:t>Devenir MF2-BE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Comic Sans MS"/>
              </a:rPr>
              <a:t>Formateur de cad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762200" y="890640"/>
            <a:ext cx="11620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4912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RATEGIE PEDAGOG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846440" y="1092240"/>
            <a:ext cx="5208480" cy="71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BJECTIF DE LA LECON PARFAITEMENT EXPLICITE ET PREAMBULE DE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120" y="3451320"/>
            <a:ext cx="8301240" cy="588960"/>
          </a:xfrm>
          <a:prstGeom prst="rightArrow">
            <a:avLst>
              <a:gd name="adj1" fmla="val 32676"/>
              <a:gd name="adj2" fmla="val 10806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6920" y="3627360"/>
            <a:ext cx="41385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OGRESSION D’ACQUISITION DES SA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3440" y="4021200"/>
            <a:ext cx="1592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IVEAU INI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46960" y="4062240"/>
            <a:ext cx="15717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IVEAU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610000" y="1798560"/>
            <a:ext cx="1162080" cy="1838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6840" y="2754360"/>
            <a:ext cx="1427400" cy="301680"/>
          </a:xfrm>
          <a:prstGeom prst="wedgeRoundRectCallout">
            <a:avLst>
              <a:gd name="adj1" fmla="val 43884"/>
              <a:gd name="adj2" fmla="val 240000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E REQU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00560" y="2527200"/>
            <a:ext cx="1201680" cy="650880"/>
          </a:xfrm>
          <a:prstGeom prst="wedgeRoundRectCallout">
            <a:avLst>
              <a:gd name="adj1" fmla="val -89893"/>
              <a:gd name="adj2" fmla="val 120976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TRÔLE ET COURS SUI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43720" y="4827600"/>
            <a:ext cx="2260440" cy="1719360"/>
          </a:xfrm>
          <a:prstGeom prst="wedgeEllipseCallout">
            <a:avLst>
              <a:gd name="adj1" fmla="val -105125"/>
              <a:gd name="adj2" fmla="val -10715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FERENT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 NIV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680" y="4622760"/>
            <a:ext cx="1650960" cy="1704960"/>
          </a:xfrm>
          <a:prstGeom prst="wedgeRoundRectCallout">
            <a:avLst>
              <a:gd name="adj1" fmla="val 74518"/>
              <a:gd name="adj2" fmla="val -40967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’est-ce que je v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évelopper chez 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utur cadre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09760" y="4067280"/>
            <a:ext cx="1935360" cy="2120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apacités à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ommuni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uivre une logi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chémati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réer un formalis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éaliser une prog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Organiser une sé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’adapter à un publ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’adapter à un niv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’adapter à un 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rier des connaiss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Etc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0000" y="5038560"/>
            <a:ext cx="1935360" cy="1038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pacités à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’apprenti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e compréhen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’acquisi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’appropr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éer un outil d’é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304160" y="4199760"/>
            <a:ext cx="763560" cy="866520"/>
          </a:xfrm>
          <a:custGeom>
            <a:avLst/>
            <a:gdLst>
              <a:gd name="textAreaLeft" fmla="*/ 0 w 763560"/>
              <a:gd name="textAreaRight" fmla="*/ 763920 w 763560"/>
              <a:gd name="textAreaTop" fmla="*/ 0 h 866520"/>
              <a:gd name="textAreaBottom" fmla="*/ 86688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4" idx="2"/>
            <a:endCxn id="83" idx="2"/>
          </p:cNvCxnSpPr>
          <p:nvPr/>
        </p:nvCxnSpPr>
        <p:spPr>
          <a:xfrm rot="5400000">
            <a:off x="4272120" y="5082120"/>
            <a:ext cx="111960" cy="2100960"/>
          </a:xfrm>
          <a:prstGeom prst="curvedConnector5">
            <a:avLst>
              <a:gd name="adj1" fmla="val 305483"/>
              <a:gd name="adj2" fmla="val 49991"/>
              <a:gd name="adj3" fmla="val 305483"/>
            </a:avLst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3665520" y="6337440"/>
            <a:ext cx="1325520" cy="371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fé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4760" y="1927080"/>
            <a:ext cx="966960" cy="757440"/>
          </a:xfrm>
          <a:prstGeom prst="wedgeRoundRectCallout">
            <a:avLst>
              <a:gd name="adj1" fmla="val -170361"/>
              <a:gd name="adj2" fmla="val -66351"/>
              <a:gd name="adj3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écur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lais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43440" y="2797200"/>
            <a:ext cx="2163960" cy="501480"/>
          </a:xfrm>
          <a:prstGeom prst="wedgeRoundRectCallout">
            <a:avLst>
              <a:gd name="adj1" fmla="val -62986"/>
              <a:gd name="adj2" fmla="val 116453"/>
              <a:gd name="adj3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 du lieu, public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ype de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8:02:47Z</dcterms:created>
  <dc:creator>Joël TALON</dc:creator>
  <dc:description/>
  <dc:language>en-US</dc:language>
  <cp:lastModifiedBy>TALON</cp:lastModifiedBy>
  <dcterms:modified xsi:type="dcterms:W3CDTF">2010-09-21T13:00:26Z</dcterms:modified>
  <cp:revision>11</cp:revision>
  <dc:subject/>
  <dc:title>Aucun titre de diapositive</dc:title>
</cp:coreProperties>
</file>