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B7A13-0896-496F-B3E0-5802C39EB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2F72C-CEDA-442D-A2CA-33DE708FF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9C371-E4F5-4A5F-BC38-2D26A02E4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D6926-6DAD-408B-AFAB-23C31AD18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7B61F-61FD-460A-812B-33E60F0C6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2DFA5-FA6C-4636-9BB0-C39B4F7B1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5E5E9-D7D1-4536-81E2-0A976C23B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1FE7D-E487-4059-AF26-8B767D2CD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1046A-66D6-4C58-BA51-8F9E70B6B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12C22-C692-44D2-999A-648D7B8BE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26A23-A366-49B4-A81C-67A11BC75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107EE-242A-4A0A-85A7-1ACD6A604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313B9-5354-4073-905C-C8A1735B172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8960" y="2587680"/>
            <a:ext cx="5867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Comic Sans MS"/>
              </a:rPr>
              <a:t>LA FORMATION DE CADRES INITIATEU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714640" y="5475240"/>
            <a:ext cx="249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Joël TALON IR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7c80"/>
                </a:solidFill>
                <a:latin typeface="Comic Sans MS"/>
              </a:rPr>
              <a:t>FEDERATION FRANCAISE D ’ETUDES ET DE SPORTS SOUS_MARI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95320" y="1238400"/>
            <a:ext cx="7620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OMITE INTERREGIONAL AQUITAINE LIMOUSIN POITOU CHAR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362240" y="692280"/>
            <a:ext cx="2746080" cy="3988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mic Sans MS"/>
              </a:rPr>
              <a:t>MF1 TUTEUR PE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76480" y="3054240"/>
            <a:ext cx="2920680" cy="39888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mic Sans MS"/>
              </a:rPr>
              <a:t>FUTUR INITIATEU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752480" y="4857840"/>
            <a:ext cx="2057400" cy="45972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ELE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49600" y="463680"/>
            <a:ext cx="3599280" cy="914040"/>
          </a:xfrm>
          <a:prstGeom prst="roundRect">
            <a:avLst>
              <a:gd name="adj" fmla="val 16667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Donne, élabore, fai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trouver des « moyens 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618520" y="2921040"/>
            <a:ext cx="2799720" cy="50940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Elabore une leç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508720" y="4799160"/>
            <a:ext cx="3216240" cy="1319400"/>
          </a:xfrm>
          <a:prstGeom prst="roundRect">
            <a:avLst>
              <a:gd name="adj" fmla="val 16667"/>
            </a:avLst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Acquérir un savoir faire, savoir être, savoir pens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52960" y="695160"/>
            <a:ext cx="1143000" cy="381240"/>
          </a:xfrm>
          <a:prstGeom prst="rightArrow">
            <a:avLst>
              <a:gd name="adj1" fmla="val 50000"/>
              <a:gd name="adj2" fmla="val 7495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172040" y="3048120"/>
            <a:ext cx="1143000" cy="380880"/>
          </a:xfrm>
          <a:prstGeom prst="rightArrow">
            <a:avLst>
              <a:gd name="adj1" fmla="val 50000"/>
              <a:gd name="adj2" fmla="val 7502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172040" y="4952880"/>
            <a:ext cx="1143000" cy="381240"/>
          </a:xfrm>
          <a:prstGeom prst="rightArrow">
            <a:avLst>
              <a:gd name="adj1" fmla="val 50000"/>
              <a:gd name="adj2" fmla="val 7495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9021600">
            <a:off x="2806200" y="1869840"/>
            <a:ext cx="2654280" cy="406440"/>
          </a:xfrm>
          <a:prstGeom prst="rightArrow">
            <a:avLst>
              <a:gd name="adj1" fmla="val 50000"/>
              <a:gd name="adj2" fmla="val 16326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9097800">
            <a:off x="3050640" y="3894840"/>
            <a:ext cx="2597400" cy="406440"/>
          </a:xfrm>
          <a:prstGeom prst="rightArrow">
            <a:avLst>
              <a:gd name="adj1" fmla="val 50000"/>
              <a:gd name="adj2" fmla="val 15976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6920" y="1258920"/>
            <a:ext cx="3035160" cy="91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Devenir tuteur pédagogique formateur d’initiateu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99960" y="5715000"/>
            <a:ext cx="232416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Devenir plongeu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080" y="3676680"/>
            <a:ext cx="2503440" cy="131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Devenir initiateur, formateur de plongeu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048120" y="216000"/>
            <a:ext cx="302868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Comic Sans MS"/>
              </a:rPr>
              <a:t>OBJECTIF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05360" y="1262160"/>
            <a:ext cx="3177000" cy="12182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9933"/>
                </a:solidFill>
                <a:latin typeface="Comic Sans MS"/>
              </a:rPr>
              <a:t>Devenir tuteu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9933"/>
                </a:solidFill>
                <a:latin typeface="Comic Sans MS"/>
              </a:rPr>
              <a:t>Pédagogiqu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9933"/>
                </a:solidFill>
                <a:latin typeface="Comic Sans MS"/>
              </a:rPr>
              <a:t>Formateur d’initiateu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1558800" y="614520"/>
            <a:ext cx="1162080" cy="4572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77560" y="1289160"/>
            <a:ext cx="2582640" cy="12182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Comic Sans MS"/>
              </a:rPr>
              <a:t>Devenir initiateu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Comic Sans MS"/>
              </a:rPr>
              <a:t>Formateur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Comic Sans MS"/>
              </a:rPr>
              <a:t>de plongeu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962960" y="884520"/>
            <a:ext cx="329040" cy="3823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780240" y="1400040"/>
            <a:ext cx="1465200" cy="846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ff"/>
                </a:solidFill>
                <a:latin typeface="Comic Sans MS"/>
              </a:rPr>
              <a:t>Deveni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ff"/>
                </a:solidFill>
                <a:latin typeface="Comic Sans MS"/>
              </a:rPr>
              <a:t>plongeu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168600" y="619560"/>
            <a:ext cx="1058040" cy="6890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76280" y="2743200"/>
            <a:ext cx="3048120" cy="32104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Comic Sans MS"/>
              </a:rPr>
              <a:t>Donner, créer, faire trouver, des « moyens » à son futur cadre pour qu ’il puisse élaborer sa leç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Comic Sans MS"/>
              </a:rPr>
              <a:t>Et pas donner la leçon toute faite !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038480" y="2781360"/>
            <a:ext cx="2305080" cy="35762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Apprendre à élaborer une leçon destinée à des élèves en formation de plongeu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Leçon qui sera adaptée à l’objectif fix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705720" y="2743200"/>
            <a:ext cx="1866960" cy="22885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Comic Sans MS"/>
              </a:rPr>
              <a:t>Acquérir un nouveau savoir être, savoir faire, savoir pens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54120" y="249120"/>
            <a:ext cx="7772400" cy="5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STRATEGIE PEDAGOGIQ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846440" y="1091880"/>
            <a:ext cx="5208480" cy="601560"/>
          </a:xfrm>
          <a:prstGeom prst="rect">
            <a:avLst/>
          </a:prstGeom>
          <a:solidFill>
            <a:srgbClr val="fdbaa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OBJECTIF DE LA LECON PARFAITEMENT EXPLICITE ET PREAMBULE DE PRES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11120" y="3451320"/>
            <a:ext cx="8301240" cy="588960"/>
          </a:xfrm>
          <a:prstGeom prst="rightArrow">
            <a:avLst>
              <a:gd name="adj1" fmla="val 32676"/>
              <a:gd name="adj2" fmla="val 108060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706920" y="3627360"/>
            <a:ext cx="41385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PROGRESSION D’ACQUISITION DES SAVOI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63440" y="4021200"/>
            <a:ext cx="159228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NIVEAU INI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446960" y="4062240"/>
            <a:ext cx="15717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NIVEAU FI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2610000" y="1695600"/>
            <a:ext cx="1233360" cy="1941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996840" y="2754360"/>
            <a:ext cx="1427400" cy="301680"/>
          </a:xfrm>
          <a:prstGeom prst="wedgeRoundRectCallout">
            <a:avLst>
              <a:gd name="adj1" fmla="val 43884"/>
              <a:gd name="adj2" fmla="val 240000"/>
              <a:gd name="adj3" fmla="val 16667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PRE REQU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400560" y="2527200"/>
            <a:ext cx="1201680" cy="650880"/>
          </a:xfrm>
          <a:prstGeom prst="wedgeRoundRectCallout">
            <a:avLst>
              <a:gd name="adj1" fmla="val -89893"/>
              <a:gd name="adj2" fmla="val 120976"/>
              <a:gd name="adj3" fmla="val 16667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CONTRÔLE ET COURS SUIV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543720" y="4827600"/>
            <a:ext cx="2260440" cy="1719360"/>
          </a:xfrm>
          <a:prstGeom prst="wedgeEllipseCallout">
            <a:avLst>
              <a:gd name="adj1" fmla="val -105125"/>
              <a:gd name="adj2" fmla="val -107157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REFERENTI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DU NIVEA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20680" y="4622760"/>
            <a:ext cx="1650960" cy="1704960"/>
          </a:xfrm>
          <a:prstGeom prst="wedgeRoundRectCallout">
            <a:avLst>
              <a:gd name="adj1" fmla="val 74518"/>
              <a:gd name="adj2" fmla="val -40967"/>
              <a:gd name="adj3" fmla="val 1666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Qu’est-ce que je veu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développer chez m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futur cadre ??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309760" y="4067280"/>
            <a:ext cx="1935360" cy="21207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Capacités à 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ommuni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Suivre une logiq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Schématis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réer un formalis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éaliser une progress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Organiser une séan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S’adapter à un publi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S’adapter à un nivea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S’adapter à un lie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Trier des connaissan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Etc …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410000" y="4873680"/>
            <a:ext cx="1935360" cy="12031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apacités à 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réer un outil d’apprentissa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réer un outil de compréhens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réer un outil d’acquisition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réer un outil d’appropri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réer un outil d’évalu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rot="5400000">
            <a:off x="4376160" y="4127400"/>
            <a:ext cx="619200" cy="866520"/>
          </a:xfrm>
          <a:custGeom>
            <a:avLst/>
            <a:gdLst>
              <a:gd name="textAreaLeft" fmla="*/ 0 w 619200"/>
              <a:gd name="textAreaRight" fmla="*/ 619560 w 619200"/>
              <a:gd name="textAreaTop" fmla="*/ 0 h 866520"/>
              <a:gd name="textAreaBottom" fmla="*/ 866880 h 8665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3" name=""/>
          <p:cNvCxnSpPr>
            <a:stCxn id="81" idx="2"/>
            <a:endCxn id="80" idx="2"/>
          </p:cNvCxnSpPr>
          <p:nvPr/>
        </p:nvCxnSpPr>
        <p:spPr>
          <a:xfrm rot="5400000">
            <a:off x="4272120" y="5082120"/>
            <a:ext cx="111960" cy="2100960"/>
          </a:xfrm>
          <a:prstGeom prst="curvedConnector5">
            <a:avLst>
              <a:gd name="adj1" fmla="val 305483"/>
              <a:gd name="adj2" fmla="val 49991"/>
              <a:gd name="adj3" fmla="val 305483"/>
            </a:avLst>
          </a:prstGeom>
          <a:ln w="507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84" name=""/>
          <p:cNvSpPr/>
          <p:nvPr/>
        </p:nvSpPr>
        <p:spPr>
          <a:xfrm>
            <a:off x="3665520" y="6337440"/>
            <a:ext cx="1325520" cy="371160"/>
          </a:xfrm>
          <a:prstGeom prst="roundRect">
            <a:avLst>
              <a:gd name="adj" fmla="val 16667"/>
            </a:avLst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ransfér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316640" y="1895400"/>
            <a:ext cx="976320" cy="725400"/>
          </a:xfrm>
          <a:prstGeom prst="wedgeRoundRectCallout">
            <a:avLst>
              <a:gd name="adj1" fmla="val -258615"/>
              <a:gd name="adj2" fmla="val -78226"/>
              <a:gd name="adj3" fmla="val 16667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Sécurit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Duré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Plais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811760" y="2806560"/>
            <a:ext cx="2163600" cy="501840"/>
          </a:xfrm>
          <a:prstGeom prst="wedgeRoundRectCallout">
            <a:avLst>
              <a:gd name="adj1" fmla="val -61518"/>
              <a:gd name="adj2" fmla="val 114555"/>
              <a:gd name="adj3" fmla="val 16667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Fonction du lieu, public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type de 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5T18:02:47Z</dcterms:created>
  <dc:creator>Joël TALON</dc:creator>
  <dc:description/>
  <dc:language>en-US</dc:language>
  <cp:lastModifiedBy>TALON</cp:lastModifiedBy>
  <dcterms:modified xsi:type="dcterms:W3CDTF">2010-09-21T13:01:08Z</dcterms:modified>
  <cp:revision>14</cp:revision>
  <dc:subject/>
  <dc:title>Aucun titre de diapositive</dc:title>
</cp:coreProperties>
</file>