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7AD-7A32-4CDA-BF4B-05D93348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EA0-9C6D-4C64-8C88-E136B9E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EB0-ADA9-4542-9A13-D0215EC5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823-CC58-4619-81BC-7F1FB532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DEC-AB16-4685-9081-F6ED890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BDA-5934-4617-ABD5-64618FF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9E3-09DC-4B3C-B35D-CD15A7B0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061-220F-4691-A8CD-933C0D3A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B6E-CDAC-4EE5-86B0-6D550216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99B-479C-41C3-A7F6-588FB6C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4F1-0A8F-4139-81D6-81271F6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3BE-5460-4EAF-91D2-A508F48A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6E9-621D-40F4-9AED-6E7A5351C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8960" y="2587680"/>
            <a:ext cx="58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LA FORMATION DE CADRES INITIATE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4640" y="547524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ël TALON IR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FEDERATION FRANCAISE D ’ETUDES ET DE SPORTS SOUS_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5320" y="1238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ITE INTERREGIONAL AQUITAINE LIMOUSIN POITOU CH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62240" y="692280"/>
            <a:ext cx="27460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MF1 TUTEUR P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76480" y="3054240"/>
            <a:ext cx="2920680" cy="398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FUTUR INITI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857840"/>
            <a:ext cx="2057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9600" y="463680"/>
            <a:ext cx="3599280" cy="914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onne, élabore, f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trouver des « moyen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8520" y="2921040"/>
            <a:ext cx="2799720" cy="5094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labore une leç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799160"/>
            <a:ext cx="3216240" cy="131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Acquérir un savoir faire, savoir être, savoir 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2960" y="69516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72040" y="30481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2040" y="4952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9021600">
            <a:off x="2806200" y="1869840"/>
            <a:ext cx="2654280" cy="406440"/>
          </a:xfrm>
          <a:prstGeom prst="rightArrow">
            <a:avLst>
              <a:gd name="adj1" fmla="val 50000"/>
              <a:gd name="adj2" fmla="val 163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97800">
            <a:off x="3050640" y="3894840"/>
            <a:ext cx="2597400" cy="406440"/>
          </a:xfrm>
          <a:prstGeom prst="rightArrow">
            <a:avLst>
              <a:gd name="adj1" fmla="val 50000"/>
              <a:gd name="adj2" fmla="val 1597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6920" y="1258920"/>
            <a:ext cx="3035160" cy="91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tuteur pédagogique formateur d’initi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960" y="5715000"/>
            <a:ext cx="232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plong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80" y="3676680"/>
            <a:ext cx="25034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initiateur, formateur de plong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216000"/>
            <a:ext cx="3028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5360" y="1262160"/>
            <a:ext cx="317700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Devenir tut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Pédagogi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Formateur d’initiat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58800" y="614520"/>
            <a:ext cx="11620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77560" y="1289160"/>
            <a:ext cx="258264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venir initiat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Formateu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 plong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62960" y="884520"/>
            <a:ext cx="329040" cy="38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0240" y="1400040"/>
            <a:ext cx="146520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Comic Sans MS"/>
              </a:rPr>
              <a:t>Deveni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Comic Sans MS"/>
              </a:rPr>
              <a:t>plong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68600" y="619560"/>
            <a:ext cx="1058040" cy="689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2743200"/>
            <a:ext cx="3048120" cy="321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Donner, créer, faire trouver, des « moyens » à son futur cadre pour qu ’il puisse élaborer sa leç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Et pas donner la leçon toute faite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781360"/>
            <a:ext cx="2305080" cy="357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prendre à élaborer une leçon destinée à des élèves en formation de plong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çon qui sera adaptée à l’objectif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2743200"/>
            <a:ext cx="1866960" cy="2288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cquérir un nouveau savoir être, savoir faire, savoir pen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4120" y="2491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RATEGIE PEDAGOG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846440" y="1091880"/>
            <a:ext cx="5208480" cy="601560"/>
          </a:xfrm>
          <a:prstGeom prst="rect">
            <a:avLst/>
          </a:prstGeom>
          <a:solidFill>
            <a:srgbClr val="fdbaa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BJECTIF DE LA LECON PARFAITEMENT EXPLICITE ET PREAMBULE DE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120" y="3451320"/>
            <a:ext cx="8301240" cy="588960"/>
          </a:xfrm>
          <a:prstGeom prst="rightArrow">
            <a:avLst>
              <a:gd name="adj1" fmla="val 32676"/>
              <a:gd name="adj2" fmla="val 10806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06920" y="3627360"/>
            <a:ext cx="4138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GRESSION D’ACQUISITION DES SA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3440" y="4021200"/>
            <a:ext cx="1592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6960" y="4062240"/>
            <a:ext cx="15717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10000" y="1695600"/>
            <a:ext cx="1233360" cy="194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6840" y="2754360"/>
            <a:ext cx="1427400" cy="301680"/>
          </a:xfrm>
          <a:prstGeom prst="wedgeRoundRectCallout">
            <a:avLst>
              <a:gd name="adj1" fmla="val 43884"/>
              <a:gd name="adj2" fmla="val 240000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 REQ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00560" y="2527200"/>
            <a:ext cx="1201680" cy="650880"/>
          </a:xfrm>
          <a:prstGeom prst="wedgeRoundRectCallout">
            <a:avLst>
              <a:gd name="adj1" fmla="val -89893"/>
              <a:gd name="adj2" fmla="val 120976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ÔLE ET COURS SUI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43720" y="4827600"/>
            <a:ext cx="2260440" cy="1719360"/>
          </a:xfrm>
          <a:prstGeom prst="wedgeEllipseCallout">
            <a:avLst>
              <a:gd name="adj1" fmla="val -105125"/>
              <a:gd name="adj2" fmla="val -1071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E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 NIV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680" y="4622760"/>
            <a:ext cx="1650960" cy="1704960"/>
          </a:xfrm>
          <a:prstGeom prst="wedgeRoundRectCallout">
            <a:avLst>
              <a:gd name="adj1" fmla="val 74518"/>
              <a:gd name="adj2" fmla="val -40967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’est-ce que je 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évelopper chez 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tur cadre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9760" y="4067280"/>
            <a:ext cx="1935360" cy="2120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muni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uivre une log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chémat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réer un formalis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éaliser une prog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Organiser une sé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niv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rier des connaiss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0000" y="4873680"/>
            <a:ext cx="1935360" cy="1203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enti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e compréh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cquisi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opr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é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4376160" y="4127400"/>
            <a:ext cx="619200" cy="866520"/>
          </a:xfrm>
          <a:custGeom>
            <a:avLst/>
            <a:gdLst>
              <a:gd name="textAreaLeft" fmla="*/ 0 w 619200"/>
              <a:gd name="textAreaRight" fmla="*/ 619560 w 61920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1" idx="2"/>
            <a:endCxn id="80" idx="2"/>
          </p:cNvCxnSpPr>
          <p:nvPr/>
        </p:nvCxnSpPr>
        <p:spPr>
          <a:xfrm rot="5400000">
            <a:off x="4272120" y="5082120"/>
            <a:ext cx="111960" cy="2100960"/>
          </a:xfrm>
          <a:prstGeom prst="curvedConnector5">
            <a:avLst>
              <a:gd name="adj1" fmla="val 305483"/>
              <a:gd name="adj2" fmla="val 49991"/>
              <a:gd name="adj3" fmla="val 305483"/>
            </a:avLst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65520" y="6337440"/>
            <a:ext cx="1325520" cy="371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fé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6640" y="1895400"/>
            <a:ext cx="976320" cy="725400"/>
          </a:xfrm>
          <a:prstGeom prst="wedgeRoundRectCallout">
            <a:avLst>
              <a:gd name="adj1" fmla="val -258615"/>
              <a:gd name="adj2" fmla="val -78226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écu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is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11760" y="2806560"/>
            <a:ext cx="2163600" cy="501840"/>
          </a:xfrm>
          <a:prstGeom prst="wedgeRoundRectCallout">
            <a:avLst>
              <a:gd name="adj1" fmla="val -61518"/>
              <a:gd name="adj2" fmla="val 114555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du lieu, public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8:02:47Z</dcterms:created>
  <dc:creator>Joël TALON</dc:creator>
  <dc:description/>
  <dc:language>en-US</dc:language>
  <cp:lastModifiedBy>TALON</cp:lastModifiedBy>
  <dcterms:modified xsi:type="dcterms:W3CDTF">2010-09-21T13:01:08Z</dcterms:modified>
  <cp:revision>14</cp:revision>
  <dc:subject/>
  <dc:title>Aucun titre de diapositive</dc:title>
</cp:coreProperties>
</file>